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5.png" ContentType="image/png"/>
  <Override PartName="/ppt/media/image14.png" ContentType="image/png"/>
  <Override PartName="/ppt/media/image1.jpeg" ContentType="image/jpeg"/>
  <Override PartName="/ppt/media/image10.jpeg" ContentType="image/jpeg"/>
  <Override PartName="/ppt/media/image5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jpeg" ContentType="image/jpeg"/>
  <Override PartName="/ppt/media/image8.png" ContentType="image/pn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</p:sldIdLst>
  <p:sldSz cx="9144000" cy="6858000"/>
  <p:notesSz cx="6815138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4FC6F-170F-4600-A69B-4921AD0E7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D3009-9146-4C87-A68A-D6AEAF96F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2108C5-DF72-4D15-98A6-7BFF9464E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A7862D-DDC4-48E8-A766-E5728D0CE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FC7C84-B992-4C74-AE07-07AB20739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A62BEC-4BD6-43D8-BD2B-7658ED47B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0D532A-B83F-46F0-915B-202A6FFAA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7C5737-2C0F-43C0-AAFE-2312A8795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3E2BF2-E516-4DA1-A38E-E06678666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542356-E59B-437B-B665-838F9A268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8EA2A1-2EB8-41D0-B93F-D9FA59688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FBEB0-A32D-4618-8D3F-6F9D468B3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0985E-A7DD-4B2B-9FB1-DAF20F482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BF408-9404-4A25-AEB0-24F478281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4A924-204E-4501-84AE-06CA851E7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0BBCF-D050-41F7-A364-2E9B33F7F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B74A5-1B8B-4D1D-BC6B-009B66146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13F7C-3F54-430C-8881-F7331620A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8BFE4-FA11-4418-B1B6-3FF3D42A1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7E260-F985-4662-BC6D-8F923D432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F6A4F-49BC-441A-B015-114BD2646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2F0BD-19DA-4023-B7BD-91C5C2EAF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44448-BCB0-4E89-9CE8-1437CC9CA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D9F49-C979-4E98-85EB-B7FEC8FB5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967D5-4622-429A-AABD-F885B5218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D26A9-4EAC-4FA6-B4C0-4537FF833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533722-B6F8-4D31-93FD-ECB3ED33D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7418B5-8221-4FB9-941B-8AC0BFC5A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EC4702-BB58-429B-B99A-5667BF738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86DCF3-8BDD-4C6F-9587-025ED9895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28BBE8-4A72-478C-ADA3-1D24663D5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FC0BC-50B1-4ED0-80C2-D49D406D0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4B546D-3C1F-430B-A9C6-CA01267C4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640B11-18C1-45B4-9122-5CE8C23B7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00E278-7420-479F-9A69-229C35F3B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4D800D-5A23-4966-93A7-CFB873905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AEE567-B89F-4D86-B7AC-76F4BF0BC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2BE69D-F93C-4099-829E-FCBF856F5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CF9BFA-CAC6-4820-A61E-07479EBDC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22CFEC-FC2C-4647-A621-F5E6B990C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1365EB-060A-4BCB-B64A-78CB929D9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C7462E-DD74-466F-BE31-2ADA0DCAE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74E7C-3AB8-4B18-94B0-346802E28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EF5D73-E377-45D4-BA06-0752D7360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702064-EFB1-4D16-A684-957238FA7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889685-721B-4923-9B26-553DE52A1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FB6248-21A2-4A43-95A4-60948C43D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D332D4-C27F-4BAE-8C3D-C441C156D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A48DB2-CE8E-4C0E-B5BA-71F9A8217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E7A5A5-CF9B-46EE-A503-5FC508ED2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BF2A7E-7908-4D0D-A8FF-09A7BD2ED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8EB31B-3681-4378-AD0F-3295087A8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03B27B-B079-4660-94D2-736AA715B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0F0F0-AA0B-4E4E-96E2-CFF65A4ED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03D7E0-8DDD-4C2C-8A65-39AF82FAC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A4672D-384B-45BE-8378-2D4B3C47C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A8066A-D714-4116-8146-BADE21252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D1781A-4E10-4839-8AF8-A683B60A9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0F1325-211B-4651-A1BB-9FE305754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621D1D-039D-466E-8376-9164EB088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797B46-1D87-43F7-B0D1-FF28C90C0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22AA5C-4392-46A2-ABFA-D05198410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A8D2AF-3F9D-4CF0-93AB-6ADF06EEF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EE1525-3E7E-4765-8C18-91367490B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5B7F7-910B-478D-81A9-C09C42628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4487A1-862B-485E-B163-9A692CDDD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3C2484-9986-4DDA-B9E1-08B0DDE51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87B852-22A5-476D-B4E0-FD82AC337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A8B2FB-8435-4686-9E08-AFDB9E7A7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3308A6-4729-4EC8-B3C2-20659C8A6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3F8B33-3CBE-4B7D-9511-FD4C4A26F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8745F9-9BDA-4DBC-A222-C7CDF27D1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D33210-D3EB-4647-90D2-08774965B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BDA8E7-2DAC-438A-A17C-3C27DF395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0E9F36-1F92-4885-9A79-770BB305D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B05D6-40E8-49AD-AE8F-ACE00C8A9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DD8368-B5E4-4AB8-B2C7-D188D410F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429E59-9A2E-48F4-9DE5-615B6D20D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3069C8-2616-46C6-919C-735B8B23C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0D57CF-D316-4F79-86E2-4367A324E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499131-9246-4162-A526-E1414468F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50537B-02BE-4064-8732-84E4FFBC4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1A4EF1-D9BF-43AB-9FB2-7B44DCCDC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B5B545-BE0E-4C65-88F9-CF17E4BF1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B8AF79-3AA5-47A9-8546-91EEEB31C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83CB1E-243D-4360-8A08-E8330A187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E1E00-6D87-4FF0-9EEA-176FAFC7A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316721-B61C-4B7A-AADA-02ADCB68D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5E3066-8813-484A-B713-938A53A11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EA2B48-2492-4C4D-94B6-34ECF2D06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93BAB0-69D8-4BFE-AE27-D521426A4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876553-0CD7-4F4F-A7FB-34F13305F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6199FF-F7D8-4CE5-A4C5-FE830CC9F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E3E300-5F29-403A-A6DE-A6E451227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8996BB-1A5D-4B14-BF6B-3FCFF457A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A41683-5D23-4E86-B2EC-B3F116C63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E93356-16DB-4173-8EC6-9D7D4CA44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DCA26-DD93-4BC2-822F-AC529A9CC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476B0C-D1AA-4494-9C4B-E58863A04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DA79CF-1EED-48FF-B352-7F9A52820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F0CE00-E020-4021-806B-21CA01630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D21712-455A-4520-8A3A-E29A996F9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5014F8-9858-4ED8-8A38-0C37F0BCE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D3614F-BF07-482D-8824-6C55ABA8E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DDE578-B548-4776-8FDA-907080696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8DD3B3-2E04-428E-BC0D-1BFB383C4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F4A825-084B-4BFF-BC3D-45D521C71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1FBD1C-A9AE-4E95-8E25-D93504D6D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092E2-39EF-4466-AD35-5C166F4CDAE1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6E935-0EB1-4B99-A758-12E682BBC2D7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F0693-9BDB-4ED8-A8EC-8442B630CF94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D7250-DCAE-4B89-BE2A-C3FAE4DE7513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10F43-7CB5-4C10-8891-259044FD8FAE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58B36-96EC-4CFB-BB27-DB1B331B75E7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A5B85-7498-4059-819E-A8D0E0B7A5FE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39620-E81B-4B68-9B4B-1A6A1D35AE1F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1427A-F160-4575-B691-44D93B1B4AB4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Rectangle 2" descr=""/>
          <p:cNvPicPr/>
          <p:nvPr/>
        </p:nvPicPr>
        <p:blipFill>
          <a:blip r:embed="rId1"/>
          <a:stretch/>
        </p:blipFill>
        <p:spPr>
          <a:xfrm>
            <a:off x="603360" y="79200"/>
            <a:ext cx="7791480" cy="246240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2133720" y="5486400"/>
            <a:ext cx="64008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43329"/>
                </a:solidFill>
                <a:latin typeface="Arial"/>
              </a:rPr>
              <a:t>Подготовила: Т.И. Ковалева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43329"/>
                </a:solidFill>
                <a:latin typeface="Arial"/>
              </a:rPr>
              <a:t>педагог-психолог МБОУ гимназия №7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43329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443329"/>
                </a:solidFill>
                <a:latin typeface="Arial"/>
              </a:rPr>
              <a:t>г. Крымск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01" name="Picture 4" descr="fft99_mf1343149"/>
          <p:cNvPicPr/>
          <p:nvPr/>
        </p:nvPicPr>
        <p:blipFill>
          <a:blip r:embed="rId2"/>
          <a:stretch/>
        </p:blipFill>
        <p:spPr>
          <a:xfrm>
            <a:off x="1676520" y="2286000"/>
            <a:ext cx="5181480" cy="289548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1"/>
          <p:cNvSpPr/>
          <p:nvPr/>
        </p:nvSpPr>
        <p:spPr>
          <a:xfrm flipV="1" rot="10800000">
            <a:off x="533160" y="-34200"/>
            <a:ext cx="8381880" cy="32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</a:t>
            </a:r>
            <a:r>
              <a:rPr b="0" lang="ru-RU" sz="3200" spc="-1" strike="noStrike">
                <a:solidFill>
                  <a:srgbClr val="c00000"/>
                </a:solidFill>
                <a:latin typeface="Tahoma"/>
                <a:ea typeface="Times New Roman"/>
              </a:rPr>
              <a:t>Коррекционное занятие включает в себя  основные этапы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сенсорная интеграция, ритмическая деятельность, образ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вспомогательные этапы работа с тонусом, развитие глаз-рука, пространственное восприяти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1"/>
          <p:cNvSpPr/>
          <p:nvPr/>
        </p:nvSpPr>
        <p:spPr>
          <a:xfrm>
            <a:off x="228600" y="218520"/>
            <a:ext cx="8686800" cy="24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Tahoma"/>
                <a:ea typeface="Times New Roman"/>
              </a:rPr>
              <a:t>Задачи: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Сенсорная интеграци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Формирование у ребенка представление о себ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Развитие произвольной деятельност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Развитие пространственных представлений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Формирование и коррекция восприятия схемы тел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blinds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1"/>
          <p:cNvSpPr/>
          <p:nvPr/>
        </p:nvSpPr>
        <p:spPr>
          <a:xfrm>
            <a:off x="762120" y="316800"/>
            <a:ext cx="777240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ahoma"/>
                <a:ea typeface="Times New Roman"/>
              </a:rPr>
              <a:t>Основные принципы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Опора на зону ближайшего развити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Учет мотивации ребенка, уважение его потребностей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Учет особенностей моторики, сенсорик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Учет  способа мышления, коммуникативных способностей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blinds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1"/>
          <p:cNvSpPr/>
          <p:nvPr/>
        </p:nvSpPr>
        <p:spPr>
          <a:xfrm>
            <a:off x="685800" y="389880"/>
            <a:ext cx="777240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Tahoma"/>
                <a:ea typeface="Times New Roman"/>
              </a:rPr>
              <a:t>Занятие строится по плану, который включает в себя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Уточнение общей моторик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Установление контакт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Определение актуального состояния ребенк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Подбор дидактических заданий на основе интереса ребенк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20" name="Picture 4" descr="https://psypedprofi.ru/wp-content/uploads/2021/01/2021-01-04_12-06-37.png"/>
          <p:cNvPicPr/>
          <p:nvPr/>
        </p:nvPicPr>
        <p:blipFill>
          <a:blip r:embed="rId1"/>
          <a:stretch/>
        </p:blipFill>
        <p:spPr>
          <a:xfrm>
            <a:off x="4648320" y="3352680"/>
            <a:ext cx="4038480" cy="283716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Прямоугольник 3"/>
          <p:cNvSpPr/>
          <p:nvPr/>
        </p:nvSpPr>
        <p:spPr>
          <a:xfrm>
            <a:off x="1066680" y="457200"/>
            <a:ext cx="6934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сихологическая работа должна проходить в тесном сотрудничестве с </a:t>
            </a:r>
            <a:r>
              <a:rPr b="1" lang="ru-RU" sz="3200" spc="-1" strike="noStrike">
                <a:solidFill>
                  <a:srgbClr val="c00000"/>
                </a:solidFill>
                <a:latin typeface="Tahoma"/>
              </a:rPr>
              <a:t>родителям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22" name="Picture 2" descr="https://spec-school.crm.eduru.ru/media/2020/01/28/1250355437/hello_html_1a4328b.png"/>
          <p:cNvPicPr/>
          <p:nvPr/>
        </p:nvPicPr>
        <p:blipFill>
          <a:blip r:embed="rId1"/>
          <a:stretch/>
        </p:blipFill>
        <p:spPr>
          <a:xfrm>
            <a:off x="609480" y="1951200"/>
            <a:ext cx="8305920" cy="490680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 txBox="1"/>
          <p:nvPr/>
        </p:nvSpPr>
        <p:spPr>
          <a:xfrm>
            <a:off x="-360" y="914040"/>
            <a:ext cx="8991720" cy="516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000099"/>
                </a:solidFill>
                <a:latin typeface="Arial"/>
                <a:ea typeface="Arial"/>
              </a:rPr>
              <a:t>СПАСИБО                    ЗА ВНИМАНИЕ !!!</a:t>
            </a:r>
            <a:endParaRPr b="0" lang="en-US" sz="7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 spd="slow"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 txBox="1"/>
          <p:nvPr/>
        </p:nvSpPr>
        <p:spPr>
          <a:xfrm>
            <a:off x="0" y="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e3b30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4e3b30"/>
                </a:solidFill>
                <a:latin typeface="Franklin Gothic Book"/>
              </a:rPr>
              <a:t>Главная сложность -  </a:t>
            </a: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заключается в отсутствии собственной мотивации к развитию и обучению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невозможность установления «общего языка» между специалистом и ребенком.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03" name="Picture 5" descr="https://avatars.mds.yandex.net/i?id=fdb1279dd8ac7f4bd5e24c03c38c0d91c9f1c090-5584275-images-thumbs&amp;n=13"/>
          <p:cNvPicPr/>
          <p:nvPr/>
        </p:nvPicPr>
        <p:blipFill>
          <a:blip r:embed="rId1"/>
          <a:stretch/>
        </p:blipFill>
        <p:spPr>
          <a:xfrm>
            <a:off x="3733920" y="2416320"/>
            <a:ext cx="5048280" cy="352728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4"/>
          <p:cNvSpPr/>
          <p:nvPr/>
        </p:nvSpPr>
        <p:spPr>
          <a:xfrm>
            <a:off x="0" y="23832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Times New Roman"/>
                <a:ea typeface="Calibri"/>
              </a:rPr>
              <a:t>Триада РАС: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Стереотипия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Специфические нарушения речи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Нарушение коммуникации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5" name="Picture 9" descr="C:\Users\admin\Desktop\триада.bmp"/>
          <p:cNvPicPr/>
          <p:nvPr/>
        </p:nvPicPr>
        <p:blipFill>
          <a:blip r:embed="rId1"/>
          <a:stretch/>
        </p:blipFill>
        <p:spPr>
          <a:xfrm>
            <a:off x="2057400" y="2514600"/>
            <a:ext cx="4915080" cy="377496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Прямоугольник 4"/>
          <p:cNvSpPr/>
          <p:nvPr/>
        </p:nvSpPr>
        <p:spPr>
          <a:xfrm>
            <a:off x="762120" y="380880"/>
            <a:ext cx="8153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Tahoma"/>
              </a:rPr>
              <a:t>      </a:t>
            </a:r>
            <a:r>
              <a:rPr b="0" lang="ru-RU" sz="2800" spc="-1" strike="noStrike">
                <a:solidFill>
                  <a:srgbClr val="c00000"/>
                </a:solidFill>
                <a:latin typeface="Tahoma"/>
              </a:rPr>
              <a:t>Используем исходную мотивацию как инструмент для его обучения. Начинаем с того что ему сейчас интересно, а потом постепенно расширяем взаимодействие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7" name="Picture 5" descr="https://micolock.ru/wp-content/uploads/9/8/d/98d823ae13c39776541c50a9ee9a747c.jpeg"/>
          <p:cNvPicPr/>
          <p:nvPr/>
        </p:nvPicPr>
        <p:blipFill>
          <a:blip r:embed="rId1"/>
          <a:stretch/>
        </p:blipFill>
        <p:spPr>
          <a:xfrm>
            <a:off x="3962520" y="3200400"/>
            <a:ext cx="4647960" cy="309888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Picture 4" descr="14-1"/>
          <p:cNvPicPr/>
          <p:nvPr/>
        </p:nvPicPr>
        <p:blipFill>
          <a:blip r:embed="rId1"/>
          <a:stretch/>
        </p:blipFill>
        <p:spPr>
          <a:xfrm>
            <a:off x="1752480" y="2362320"/>
            <a:ext cx="5334120" cy="3200400"/>
          </a:xfrm>
          <a:prstGeom prst="rect">
            <a:avLst/>
          </a:prstGeom>
          <a:ln w="0">
            <a:noFill/>
          </a:ln>
        </p:spPr>
      </p:pic>
      <p:sp>
        <p:nvSpPr>
          <p:cNvPr id="409" name="Прямоугольник 4"/>
          <p:cNvSpPr/>
          <p:nvPr/>
        </p:nvSpPr>
        <p:spPr>
          <a:xfrm>
            <a:off x="838080" y="380880"/>
            <a:ext cx="8001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Tahoma"/>
              </a:rPr>
              <a:t>      </a:t>
            </a:r>
            <a:r>
              <a:rPr b="0" lang="ru-RU" sz="2800" spc="-1" strike="noStrike">
                <a:solidFill>
                  <a:srgbClr val="c00000"/>
                </a:solidFill>
                <a:latin typeface="Tahoma"/>
              </a:rPr>
              <a:t>Коррекционная работа основывается на компенсации </a:t>
            </a:r>
            <a:r>
              <a:rPr b="1" lang="ru-RU" sz="2800" spc="-1" strike="noStrike">
                <a:solidFill>
                  <a:srgbClr val="c00000"/>
                </a:solidFill>
                <a:latin typeface="Tahoma"/>
              </a:rPr>
              <a:t>дифицитарных сфер развития с опорой на сохранные сферы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Прямоугольник 4"/>
          <p:cNvSpPr/>
          <p:nvPr/>
        </p:nvSpPr>
        <p:spPr>
          <a:xfrm>
            <a:off x="685800" y="152280"/>
            <a:ext cx="8229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ahoma"/>
              </a:rPr>
              <a:t>Признаки тактильной дисфункций: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гиперсинсетивность и гипосенситивность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11" name="Picture 5" descr="https://fb.ru/misc/i/gallery/53302/3007019.jpg"/>
          <p:cNvPicPr/>
          <p:nvPr/>
        </p:nvPicPr>
        <p:blipFill>
          <a:blip r:embed="rId1"/>
          <a:stretch/>
        </p:blipFill>
        <p:spPr>
          <a:xfrm>
            <a:off x="1676520" y="1600200"/>
            <a:ext cx="4495680" cy="449568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Picture 5" descr="https://fb.ru/misc/i/gallery/53302/3007019.jpg"/>
          <p:cNvPicPr/>
          <p:nvPr/>
        </p:nvPicPr>
        <p:blipFill>
          <a:blip r:embed="rId1"/>
          <a:stretch/>
        </p:blipFill>
        <p:spPr>
          <a:xfrm>
            <a:off x="4038480" y="2819520"/>
            <a:ext cx="3505320" cy="3504960"/>
          </a:xfrm>
          <a:prstGeom prst="rect">
            <a:avLst/>
          </a:prstGeom>
          <a:ln w="0">
            <a:noFill/>
          </a:ln>
        </p:spPr>
      </p:pic>
      <p:sp>
        <p:nvSpPr>
          <p:cNvPr id="413" name="Rectangle 1"/>
          <p:cNvSpPr/>
          <p:nvPr/>
        </p:nvSpPr>
        <p:spPr>
          <a:xfrm>
            <a:off x="609480" y="605880"/>
            <a:ext cx="75438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При нарушении работы </a:t>
            </a:r>
            <a:r>
              <a:rPr b="1" lang="ru-RU" sz="2000" spc="-1" strike="noStrike">
                <a:solidFill>
                  <a:srgbClr val="c00000"/>
                </a:solidFill>
                <a:latin typeface="Tahoma"/>
                <a:ea typeface="Times New Roman"/>
              </a:rPr>
              <a:t>вистибулярной системы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при гиперчувствительности ребенок будет избегать площадок, горок, лестниц и т.д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При гипочувствительности ребенок стремится докомпенсировать, то есть не сидеть на месте, прыгать, экстремально спускаться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Picture 2" descr="https://myslide.ru/documents_7/e7796fe0f5648564fc1bc4702e834c4b/img8.jpg"/>
          <p:cNvPicPr/>
          <p:nvPr/>
        </p:nvPicPr>
        <p:blipFill>
          <a:blip r:embed="rId1"/>
          <a:stretch/>
        </p:blipFill>
        <p:spPr>
          <a:xfrm>
            <a:off x="-127080" y="0"/>
            <a:ext cx="927108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Picture 5" descr="https://mediaex.ru/wp-content/uploads/f/2/5/f25536810cbf8cdcaaa47e36186bac79.jpeg"/>
          <p:cNvPicPr/>
          <p:nvPr/>
        </p:nvPicPr>
        <p:blipFill>
          <a:blip r:embed="rId1"/>
          <a:stretch/>
        </p:blipFill>
        <p:spPr>
          <a:xfrm>
            <a:off x="685800" y="380880"/>
            <a:ext cx="8077320" cy="632772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cp:lastPrinted>2016-05-30T08:54:26Z</cp:lastPrinted>
  <dcterms:modified xsi:type="dcterms:W3CDTF">2023-05-29T09:04:57Z</dcterms:modified>
  <cp:revision>3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