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B34-A54F-4FA9-AA38-5DDAAF87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872-2275-4B1A-A9CD-9E19A747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8E2-19D0-4275-9D20-559B12C5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D85-2F3E-438F-BBCC-658957D6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5CA-5A01-408D-A47D-CA0FC494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68C0-D05E-459B-A139-10F29E5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2D6-F801-4AAD-AE09-3623CF5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B9E4-FBC5-4CAC-80A7-603885D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6311-90AD-4283-84D6-E224B012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4E0-6110-43F9-8838-6A9EFF8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DAE2-D4A3-452E-BCFE-0E8FD4D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13E-F269-4DF9-B18E-AE0C84C8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9D4D-B649-43ED-A260-94C1880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6B95-4632-4B7E-9350-CFEEE20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3AA6-57A9-4E74-9375-039E43D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1CBD-91AD-49E8-8749-C0D8C7C1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6145-B18F-43E9-90D4-EE090216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BF8-A70E-42E4-8DFE-365F197F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8CF-F96E-4AAE-BDDF-66A6574E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616-BAF5-46AF-9829-CB26C3A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3BC-6BB1-4182-B4F2-1500D95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E63-17DD-4A58-ACF8-4CC6F3D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240-6F8B-44F9-8FA1-F2DE13D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08A-3ACC-44C5-B38A-20E0053D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5AF2-A8DF-4FE5-904E-C7DEE51B12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E8DD-5CD1-4E29-B5E7-04AC14DF37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0000" y="4723920"/>
            <a:ext cx="59770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ое казенное общеобразовательное учреждение Краснодарского края специальная (коррекционная) школа-интернат г.Краснода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26640" y="1367640"/>
            <a:ext cx="72878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держание работы педагога-психолога в деятельности школьного психолого-педагогического консилиу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8560" y="397080"/>
            <a:ext cx="792900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чень документов для представления обучающегося на ПМПК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Копия паспорта или свидетельства о рождении ребенка (предоставляются с предъявлением оригинала или заверенной в установленном порядке копи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Родителем (законным представителем) предоставляется документ, удостоверяющий его личность, а также документы, подтверждающие полномочия по представлению интересов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Направление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тельной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Подробная выписка из истории развития ребенка с заключениями врачей из медицинской организации по месту жительства (регистрации) по форме; заключения врачей-специалистов, наблюдающих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Психолого-педагогическая характеристика на обучающегося, выданная образовательной организаци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Выписка из электронного журнала текущих оцен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.Письменные работы обучающегося по русскому (родному) языку, математике за учебный год (копии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.Результаты предыдущих обследований ребенка (заключ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9. Справка МСЭ  (коп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исьмо Минпросвещения Росси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 08.02.2019года №ТС-421/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исьме Минпросвещения России обращается внимание на необходимость повышения эффективности работы служб психолого-педагогического сопровождения обучающихся с нарушением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я и письм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Учение без мучения»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.М.Зегеба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2" descr="D:\Изображение 008.jpg"/>
          <p:cNvPicPr/>
          <p:nvPr/>
        </p:nvPicPr>
        <p:blipFill>
          <a:blip r:embed="rId1"/>
          <a:stretch/>
        </p:blipFill>
        <p:spPr>
          <a:xfrm>
            <a:off x="1370160" y="2362320"/>
            <a:ext cx="270648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348160" y="2362320"/>
            <a:ext cx="25956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image.jpg"/>
          <p:cNvPicPr/>
          <p:nvPr/>
        </p:nvPicPr>
        <p:blipFill>
          <a:blip r:embed="rId1"/>
          <a:stretch/>
        </p:blipFill>
        <p:spPr>
          <a:xfrm>
            <a:off x="179280" y="115920"/>
            <a:ext cx="882036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9160" y="553680"/>
            <a:ext cx="776988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родителей (законных представителей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Девочка 10 лет, обучается в 4 классе общеобразовательной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од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итель ежедневно «Жалуется» на невнимательность, неусидчивость, что часто забывает школьные принадлежности, не выполняет домашние задания, отвлекает одноклассников во время уроков, падает успеваемость по математике и русскому языку, активно отстаивает свое мнение в споре как с педагогом, так и с одноклассниками, импульсивна, демонстратив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учителя начальных класс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Мальчик 8 лет, обучается во 2 классе в общеобразовательной организации по АООП для обучающихся с ЗПР, вариант 7.2»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чина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учающийся в учебной деятельности  показывает слабые знания по основным предметам: математика, русский язык, чтение. С выполнением контрольных работ ученик не справился. перенос умений на учебную деятельность непродуктивен, низкая работоспособность и продуктивность, истощаемость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ка познавательного развития отсутствуе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C:\Users\Андрей\Pictures\шк4.png"/>
          <p:cNvPicPr/>
          <p:nvPr/>
        </p:nvPicPr>
        <p:blipFill>
          <a:blip r:embed="rId1"/>
          <a:stretch/>
        </p:blipFill>
        <p:spPr>
          <a:xfrm>
            <a:off x="-65160" y="2133720"/>
            <a:ext cx="9209160" cy="3181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419280" y="5373360"/>
            <a:ext cx="526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Zhanna.uqolskaya@mail.r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ЛАГОДАРЮ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480" y="621720"/>
            <a:ext cx="777924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Users\Отдел кадров\Desktop\семинар\Изображение.jpg"/>
          <p:cNvPicPr/>
          <p:nvPr/>
        </p:nvPicPr>
        <p:blipFill>
          <a:blip r:embed="rId1"/>
          <a:stretch/>
        </p:blipFill>
        <p:spPr>
          <a:xfrm>
            <a:off x="942840" y="2362320"/>
            <a:ext cx="3178440" cy="423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8057" t="9309" r="57140" b="5617"/>
          <a:stretch/>
        </p:blipFill>
        <p:spPr>
          <a:xfrm>
            <a:off x="5291280" y="2362320"/>
            <a:ext cx="30286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0920" y="2362320"/>
            <a:ext cx="39970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ЭТИЧЕ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дагога-психолога службы практической псих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ния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ят на Всероссийском съезде практических психологов образов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60640" y="2362320"/>
            <a:ext cx="3987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СНОДАРСКИЙ КРАЕВОЙ ИНСТИТУТ ДОПОЛНИТЕЛЬНОГО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ФЕССИОНАЛЬНОГО ПЕДАГОГИЧЕСКОГО ОБРАЗОВА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ЧАЯ ТЕТРАДЬ ШКОЛЬНОГО ПСИХОЛОГА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Авторы-составители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Рыженко С. К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андидат психологических наук, заведующая кафедрой психолог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раснодарского краевого института дополнительного профессиональн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Чернявская О.С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старший преподаватель кафедры психологии Краснодарского краев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института дополнительного профессионального 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Рецензенты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Кузма Л.П., Ефрюшкина О.В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000" y="702360"/>
            <a:ext cx="7761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ринципы П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8197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гума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омплексн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всестороннего и целостного изучения ребе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индивидуализированности изучения ребенка 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етом их возрастных и характерологических особен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динамическ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а обучающего экспериме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ачественно-количественного под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56360" y="834120"/>
            <a:ext cx="83149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оненты </a:t>
            </a: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сихолого-педагогического сопрово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е тьютора, ассист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полнительные занятия  с педагог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дефектологом (сурдопедагогом, тифлопедагогом, олигофренопедагого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логопед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психол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социальным педаг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ЛФК, занятия в специальной физкультурной группе, ритмико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состояния ребенка на ПП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34440" y="810720"/>
            <a:ext cx="7322040" cy="163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Этапы консилиумной  деятельности психолога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варительн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в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торо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ершающ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Задачи деятельности в процессе сопровождения обучающегося с ОВЗ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2361960"/>
            <a:ext cx="80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ие в разработ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видуального Образовательного Плана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ОП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эффективности реализации ИОП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ндивидуализированного образовательного маршрута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рекционных программ в рамках психолого-педагогичес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образовательной траектории ребенка в О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ординация взаимодействия специалистов по оказанию дополнительной специализированной помощи обучающим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Равнобедренный треугольник 3"/>
          <p:cNvSpPr/>
          <p:nvPr/>
        </p:nvSpPr>
        <p:spPr>
          <a:xfrm>
            <a:off x="1547640" y="2205000"/>
            <a:ext cx="6120000" cy="4464000"/>
          </a:xfrm>
          <a:prstGeom prst="triangle">
            <a:avLst>
              <a:gd name="adj" fmla="val 501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Прямая соединительная линия 5"/>
          <p:cNvSpPr/>
          <p:nvPr/>
        </p:nvSpPr>
        <p:spPr>
          <a:xfrm>
            <a:off x="3492360" y="3860640"/>
            <a:ext cx="223200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771640" y="2637000"/>
            <a:ext cx="374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горо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ПМП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2556000" y="5300640"/>
            <a:ext cx="410364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8080" y="825840"/>
            <a:ext cx="787428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дель сопровождения обучаю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1763640" y="393372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школ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исты   сопровожд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г, социальный педагог, логопед, дефектоло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2195640" y="544500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детского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06320" y="499680"/>
            <a:ext cx="816336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Организация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психолого-педагогического сопровождения обучающегося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1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заключению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2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основании медицинского заклю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3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явление обучающихся с особыми образовательными потребност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4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я ПП сопровождения для обучающихся, испытывающего трудности в усвоении образовательных программ, развитии и социализации адапт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do</dc:creator>
  <dc:description/>
  <dc:language>en-US</dc:language>
  <cp:lastModifiedBy>39PC</cp:lastModifiedBy>
  <dcterms:modified xsi:type="dcterms:W3CDTF">2022-10-20T12:33:32Z</dcterms:modified>
  <cp:revision>115</cp:revision>
  <dc:subject/>
  <dc:title>PowerPoint Presentation</dc:title>
</cp:coreProperties>
</file>