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D92-0929-4479-AED7-65A0C415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046-510A-4898-95F5-26EC4CD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A1B-90C3-4CFE-A9DE-3ABE4421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917-A351-4EF1-99C9-84849DA3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1E3-22DF-49EE-BFEB-0B50B7BA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0240-0285-4549-9DBE-34CD83A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CA95-EED4-423E-9633-BB98E9C6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EC22-D684-4CB4-86DD-7DC8D6A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2DF-090D-4555-9E6D-ED3EC5F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2BA-6CFF-4C1B-BE91-4DBCCEC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CD95-DA17-46AB-AB70-C87DE92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CA7-BFF9-4E8F-9198-CA8B441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62E6-8BFF-42A7-9A5B-AB6EF70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61F-CB03-41CB-8934-75769FC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6AF-718A-4C76-BF84-EC1BD87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BB8B-9E6C-44B3-B3F0-07789BCF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38D-B369-4AF3-B7EF-D35DD6B2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2A6E-11EC-42A5-8AFE-98E6E217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C0FE1-C0D1-4338-8696-ED2BAD0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1FBE1-45B5-4DEA-85F9-3665A591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18B22-088B-49E8-8511-B1DFF3F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D9B18-A37C-43BE-B569-DE45538E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135-AF6C-4DBD-807D-887388F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E2D15-118E-4654-8ADE-D544FAA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DA36-2868-4CA9-A026-8F5083E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48D24-DBCB-4BEC-9616-6FFEEC4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AEB6F-0D58-465D-9D83-45CFA8E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0AEF7-DE39-44C9-A54C-0CBC63F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5719C-9437-47E9-928F-4CFCF8F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C4898-4D83-41B3-9945-4660C8F8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A34-1A3C-4301-A507-65DF7CAB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C21-E43B-495C-A5A3-7D0288C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9A1-9F9D-4D29-8BDE-59E06551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699-6D8E-4C15-B85A-E2E432D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238-48E7-45FA-8475-441356F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473-E4CD-4C8A-9E15-A6AAB8C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CC3-112B-44C3-9FF4-F8CA75C061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178D-4282-453E-8BC2-26920197DE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A529-8154-4BF0-B98F-A62503D95D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Прямоугольник 8"/>
          <p:cNvGrpSpPr/>
          <p:nvPr/>
        </p:nvGrpSpPr>
        <p:grpSpPr>
          <a:xfrm>
            <a:off x="324000" y="620640"/>
            <a:ext cx="7921080" cy="5829840"/>
            <a:chOff x="324000" y="620640"/>
            <a:chExt cx="7921080" cy="5829840"/>
          </a:xfrm>
        </p:grpSpPr>
        <p:pic>
          <p:nvPicPr>
            <p:cNvPr id="1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20640"/>
              <a:ext cx="7921080" cy="58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2160" y="985680"/>
              <a:ext cx="766440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341360"/>
            <a:ext cx="705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052640"/>
            <a:ext cx="7056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7b"/>
                </a:solidFill>
                <a:latin typeface="Times New Roman"/>
              </a:rPr>
              <a:t>Муниципальное автономное дошкольное образовательное учреждение  д/с №11 «Лазурный» муниципального образования город-курорт Ан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Сотрудничество учителя-логопеда и воспитателя при постановке свистящих и шипящих звуков у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высшей квалификационной категории МАДОУ№ 11 «Лазур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77b"/>
                </a:solidFill>
                <a:latin typeface="Times New Roman"/>
              </a:rPr>
              <a:t>Чипизубова Еле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Прямоугольник 8"/>
          <p:cNvGrpSpPr/>
          <p:nvPr/>
        </p:nvGrpSpPr>
        <p:grpSpPr>
          <a:xfrm>
            <a:off x="468360" y="476280"/>
            <a:ext cx="8064000" cy="6118560"/>
            <a:chOff x="468360" y="476280"/>
            <a:chExt cx="8064000" cy="6118560"/>
          </a:xfrm>
        </p:grpSpPr>
        <p:pic>
          <p:nvPicPr>
            <p:cNvPr id="24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8064000" cy="611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98680" y="859320"/>
              <a:ext cx="7803000" cy="49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Планиро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коррекционно-образовательной  рабо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В плане воспитатели выделяют графу «Коррекционная работ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Артикуляцион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Дыхательн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Пальчиковая гимн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Формирование фонетического вос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Формирование лексико-грамматических предста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6. Развитие ВП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7. Связная реч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Формирование навыков звукового анали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Контроль за произношение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87280" y="1413000"/>
            <a:ext cx="67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8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Прямоугольник 8"/>
          <p:cNvGrpSpPr/>
          <p:nvPr/>
        </p:nvGrpSpPr>
        <p:grpSpPr>
          <a:xfrm>
            <a:off x="250920" y="476280"/>
            <a:ext cx="7921080" cy="6189840"/>
            <a:chOff x="250920" y="476280"/>
            <a:chExt cx="7921080" cy="6189840"/>
          </a:xfrm>
        </p:grpSpPr>
        <p:pic>
          <p:nvPicPr>
            <p:cNvPr id="2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76280"/>
              <a:ext cx="7921080" cy="61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9080" y="863640"/>
              <a:ext cx="7664400" cy="50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73764"/>
                  </a:solidFill>
                  <a:latin typeface="Times New Roman"/>
                </a:rPr>
                <a:t>Особенности сотрудничества педагогов           в ДОУ «Лазурны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.</a:t>
              </a:r>
              <a:r>
                <a:rPr b="1" lang="ru-RU" sz="28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Ознакомление воспитателей с результатами обследования детей в начале учебного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2. Составление годового плана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3.  Создание предметно-развивающей и речевой сре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4. Изготовление, подбор контуров, трафаретов, дидактических и настольно-печатных игр на заданный звук и по всем темам; оформление книжного и родительского угол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5. Ведение журнала взаимодействия воспитателей и учителя-логопед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6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Прямоугольник 8"/>
          <p:cNvGrpSpPr/>
          <p:nvPr/>
        </p:nvGrpSpPr>
        <p:grpSpPr>
          <a:xfrm>
            <a:off x="468360" y="907920"/>
            <a:ext cx="7919640" cy="5758200"/>
            <a:chOff x="468360" y="907920"/>
            <a:chExt cx="7919640" cy="575820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68360" y="907920"/>
              <a:ext cx="791964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6520" y="1268280"/>
              <a:ext cx="766332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8. Использование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логопедических пятиминуток </a:t>
              </a: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в повседневной работе (использование различных видов гимнастик – дыхательной, зрительной, пальчиковой, артикуляционной)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9. Проектный мето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0. Организация и проведение конкурса чтецов. Заучивание стихов по каждой лексической те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1. Драматизация стихов, сказок, рассказ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2. Составление предложений, рассказов по схемам и мнемотаблица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3. Выполнение упражнений на межполушарное взаимодейств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4. Мультипликационная студ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77b"/>
                  </a:solidFill>
                  <a:latin typeface="Times New Roman"/>
                </a:rPr>
                <a:t>15. Взаимодействие с родителя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Прямоугольник 8"/>
          <p:cNvGrpSpPr/>
          <p:nvPr/>
        </p:nvGrpSpPr>
        <p:grpSpPr>
          <a:xfrm>
            <a:off x="250920" y="907920"/>
            <a:ext cx="7921080" cy="5758200"/>
            <a:chOff x="250920" y="907920"/>
            <a:chExt cx="7921080" cy="5758200"/>
          </a:xfrm>
        </p:grpSpPr>
        <p:pic>
          <p:nvPicPr>
            <p:cNvPr id="26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79210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79080" y="1268280"/>
              <a:ext cx="7664400" cy="46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Таким образом, и логопед, и воспитатель должны ясно представлять характер и особенности своей работы, чтобы, помогая друг другу,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достичь единой цели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–</a:t>
              </a:r>
              <a:r>
                <a:rPr b="0" lang="ru-RU" sz="3200" spc="-1" strike="noStrike">
                  <a:solidFill>
                    <a:srgbClr val="c73764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7077b"/>
                  </a:solidFill>
                  <a:latin typeface="Times New Roman"/>
                </a:rPr>
                <a:t>воспитать у ребёнка правильную речь и подготовить его для успешного обучения в школ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11280" y="148428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Прямоугольник 8"/>
          <p:cNvGrpSpPr/>
          <p:nvPr/>
        </p:nvGrpSpPr>
        <p:grpSpPr>
          <a:xfrm>
            <a:off x="250920" y="692280"/>
            <a:ext cx="8208360" cy="6162840"/>
            <a:chOff x="250920" y="692280"/>
            <a:chExt cx="8208360" cy="6162840"/>
          </a:xfrm>
        </p:grpSpPr>
        <p:pic>
          <p:nvPicPr>
            <p:cNvPr id="2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8376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84360" y="141300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197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ЖЕЛАЮ  ПРИЯТНОГО  ПРОСМОТРА И  УСПЕХОВ В РЕАЛИЗАЦИИ ПРОФЕССИОНАЛЬНЫ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НАВЫКОВ</a:t>
            </a:r>
            <a:r>
              <a:rPr b="1" lang="ru-RU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В УСЛОВИЯХ </a:t>
            </a:r>
            <a:r>
              <a:rPr b="1" i="1" lang="en-US" sz="2400" spc="-1" strike="noStrike">
                <a:solidFill>
                  <a:srgbClr val="c7376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ДЕЯТЕЛЬНОСТИ   ДОУ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952720" cy="2736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76720" y="27082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МАДОУ детский сад №11 «Лазурный» город-курорт Анапа, ул.Лазурная,12 </a:t>
            </a:r>
            <a:br>
              <a:rPr sz="2400"/>
            </a:b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7077b"/>
                </a:solidFill>
                <a:latin typeface="Times New Roman"/>
              </a:rPr>
              <a:t>mail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lazyrniyds</a:t>
            </a:r>
            <a:r>
              <a:rPr b="0" lang="ru-RU" sz="2400" spc="-1" strike="noStrike">
                <a:solidFill>
                  <a:srgbClr val="07077b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7077b"/>
                </a:solidFill>
                <a:latin typeface="Times New Roman"/>
              </a:rPr>
              <a:t>@mail.ru</a:t>
            </a:r>
            <a:br>
              <a:rPr sz="2400"/>
            </a:b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ведующий: </a:t>
            </a:r>
            <a:r>
              <a:rPr b="1" i="1" lang="en-US" sz="2400" spc="-1" strike="noStrike">
                <a:solidFill>
                  <a:srgbClr val="07077b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лименко Светлана  Александр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Прямоугольник 8"/>
          <p:cNvGrpSpPr/>
          <p:nvPr/>
        </p:nvGrpSpPr>
        <p:grpSpPr>
          <a:xfrm>
            <a:off x="395280" y="907920"/>
            <a:ext cx="8567280" cy="5614200"/>
            <a:chOff x="395280" y="907920"/>
            <a:chExt cx="8567280" cy="5614200"/>
          </a:xfrm>
        </p:grpSpPr>
        <p:pic>
          <p:nvPicPr>
            <p:cNvPr id="1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5280" y="907920"/>
              <a:ext cx="856728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33880" y="1259280"/>
              <a:ext cx="828972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73764"/>
                  </a:solidFill>
                  <a:latin typeface="Times New Roman"/>
                </a:rPr>
                <a:t>Успех коррекционной логопедической работы в условиях группы для детей с речевой патологией во многом зависит от слаженности в работе педагогов, а особенно от взаимосвязи, преемственности в работе воспитателя и учителя-логопед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звукопроизношения свистящ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ктивно участвует в коррекционной работ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-181080" y="126828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Прямоугольник 8"/>
          <p:cNvGrpSpPr/>
          <p:nvPr/>
        </p:nvGrpSpPr>
        <p:grpSpPr>
          <a:xfrm>
            <a:off x="0" y="907920"/>
            <a:ext cx="7884720" cy="5614200"/>
            <a:chOff x="0" y="907920"/>
            <a:chExt cx="7884720" cy="56142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7884720" cy="56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7440" y="1259280"/>
              <a:ext cx="7629480" cy="453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1477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484280"/>
            <a:ext cx="705672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Arial"/>
              </a:rPr>
              <a:t>Сотрудничество учителя-логопеда и воспитателя  направлено на решение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выявление детей, имеющих речевые нарушения свистящих и шипящих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коррекц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Arial"/>
              </a:rPr>
              <a:t>*профилактика возникновения речевы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0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Прямоугольник 8"/>
          <p:cNvGrpSpPr/>
          <p:nvPr/>
        </p:nvGrpSpPr>
        <p:grpSpPr>
          <a:xfrm>
            <a:off x="324000" y="907920"/>
            <a:ext cx="7919640" cy="5687280"/>
            <a:chOff x="324000" y="907920"/>
            <a:chExt cx="7919640" cy="5687280"/>
          </a:xfrm>
        </p:grpSpPr>
        <p:pic>
          <p:nvPicPr>
            <p:cNvPr id="1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7919640" cy="56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2160" y="1263960"/>
              <a:ext cx="7663320" cy="45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197000"/>
            <a:ext cx="73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557360"/>
            <a:ext cx="75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3764"/>
                </a:solidFill>
                <a:latin typeface="Times New Roman"/>
              </a:rPr>
              <a:t>Планирование скоординированной работы учителя-логопеда и воспитателя в группе компенсирующей направленности для детей с ТНР осуществляется в следующ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1. коррекционно-развив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2. общеобразов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77b"/>
                </a:solidFill>
                <a:latin typeface="Times New Roman"/>
              </a:rPr>
              <a:t>3. воспит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9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50616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Прямоугольник 8"/>
          <p:cNvGrpSpPr/>
          <p:nvPr/>
        </p:nvGrpSpPr>
        <p:grpSpPr>
          <a:xfrm>
            <a:off x="-181080" y="836640"/>
            <a:ext cx="8353080" cy="5829480"/>
            <a:chOff x="-181080" y="836640"/>
            <a:chExt cx="8353080" cy="5829480"/>
          </a:xfrm>
        </p:grpSpPr>
        <p:pic>
          <p:nvPicPr>
            <p:cNvPr id="20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181080" y="83664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-45720" y="120168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Работа при коррекции звукопроизнош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исправляет нарушение речи: готовит артикуляционный уклад дефектных звуков, ставит их, автоматизирует и дифференциру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: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д руководством логопеда активно участвует в коррекционной работе: автоматизирует поставленные звуки в словах, словосочетаниях, в связной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8360" y="1413000"/>
            <a:ext cx="73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7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Прямоугольник 8"/>
          <p:cNvGrpSpPr/>
          <p:nvPr/>
        </p:nvGrpSpPr>
        <p:grpSpPr>
          <a:xfrm>
            <a:off x="324000" y="692280"/>
            <a:ext cx="8208360" cy="6162840"/>
            <a:chOff x="324000" y="692280"/>
            <a:chExt cx="8208360" cy="6162840"/>
          </a:xfrm>
        </p:grpSpPr>
        <p:pic>
          <p:nvPicPr>
            <p:cNvPr id="2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24000" y="692280"/>
              <a:ext cx="82083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6840" y="1078200"/>
              <a:ext cx="79426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c73764"/>
                  </a:solidFill>
                  <a:latin typeface="Times New Roman"/>
                </a:rPr>
                <a:t>I </a:t>
              </a: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Подготовительный этап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  </a:t>
              </a:r>
              <a:r>
                <a:rPr b="1" i="1" lang="ru-RU" sz="1800" spc="-1" strike="noStrike">
                  <a:solidFill>
                    <a:srgbClr val="c73764"/>
                  </a:solidFill>
                  <a:latin typeface="Arial"/>
                </a:rPr>
                <a:t>Цель: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ru-RU" sz="1800" spc="-1" strike="noStrike">
                  <a:solidFill>
                    <a:srgbClr val="07077b"/>
                  </a:solidFill>
                  <a:latin typeface="Arial"/>
                </a:rPr>
                <a:t>подготовка речедвигательного и речеслухового     анализатора к правильному произношению и воспроизведению звука.</a:t>
              </a:r>
              <a:r>
                <a:rPr b="0" i="1" lang="ru-RU" sz="1800" spc="-1" strike="noStrike">
                  <a:solidFill>
                    <a:srgbClr val="07077b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, в зависимости от характера нарушения звука у ребёнка, вырабатывает и тренирует дви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в игровой форме закрепляет у детей движения и положения органов артикуляционного аппар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84360" y="1052640"/>
            <a:ext cx="71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5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186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Прямоугольник 8"/>
          <p:cNvGrpSpPr/>
          <p:nvPr/>
        </p:nvGrpSpPr>
        <p:grpSpPr>
          <a:xfrm>
            <a:off x="250920" y="404640"/>
            <a:ext cx="8137080" cy="6450120"/>
            <a:chOff x="250920" y="404640"/>
            <a:chExt cx="8137080" cy="645012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8137080" cy="645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82320" y="808560"/>
              <a:ext cx="7873560" cy="52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2852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907920"/>
            <a:ext cx="7345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3764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c73764"/>
                </a:solidFill>
                <a:latin typeface="Times New Roman"/>
              </a:rPr>
              <a:t>Этап появления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3764"/>
                </a:solidFill>
                <a:latin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000" spc="-1" strike="noStrike">
                <a:solidFill>
                  <a:srgbClr val="07077b"/>
                </a:solidFill>
                <a:latin typeface="Times New Roman"/>
              </a:rPr>
              <a:t>добиться правильного звучания изолированного зву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Учитель-логопед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ставит звуки, предварительно отрабатывая артикуляционный уклад нужного звука, при этом использует специальные приёмы и отработанные на предыдущем этапе движения органов артикуляцион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77b"/>
                </a:solidFill>
                <a:latin typeface="Times New Roman"/>
              </a:rPr>
              <a:t>Воспитатель </a:t>
            </a:r>
            <a:r>
              <a:rPr b="1" lang="ru-RU" sz="2400" spc="-1" strike="noStrike">
                <a:solidFill>
                  <a:srgbClr val="07077b"/>
                </a:solidFill>
                <a:latin typeface="Times New Roman"/>
              </a:rPr>
              <a:t>закрепляет произнесение поставленного логопедом звука, фиксируя внимание ребёнка на его звучании и артикуляции, используя картинки-символы и звуко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4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8"/>
          <p:cNvGrpSpPr/>
          <p:nvPr/>
        </p:nvGrpSpPr>
        <p:grpSpPr>
          <a:xfrm>
            <a:off x="-468360" y="0"/>
            <a:ext cx="8711640" cy="6854760"/>
            <a:chOff x="-468360" y="0"/>
            <a:chExt cx="8711640" cy="68547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468360" y="0"/>
              <a:ext cx="871164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-327240" y="429120"/>
              <a:ext cx="8429760" cy="55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  </a:t>
              </a:r>
              <a:r>
                <a:rPr b="1" i="1" lang="en-US" sz="3200" spc="-1" strike="noStrike">
                  <a:solidFill>
                    <a:srgbClr val="c73764"/>
                  </a:solidFill>
                  <a:latin typeface="Times New Roman"/>
                </a:rPr>
                <a:t>III  </a:t>
              </a:r>
              <a:r>
                <a:rPr b="1" i="1" lang="ru-RU" sz="3200" spc="-1" strike="noStrike">
                  <a:solidFill>
                    <a:srgbClr val="c73764"/>
                  </a:solidFill>
                  <a:latin typeface="Times New Roman"/>
                </a:rPr>
                <a:t>Этап усвоения зву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73764"/>
                  </a:solidFill>
                  <a:latin typeface="Times New Roman"/>
                </a:rPr>
                <a:t>Цель: 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 ребенка правильно произносить уже поставленный звук изолированно, затем в слогах, словах, фразах;</a:t>
              </a:r>
              <a:r>
                <a:rPr b="0" lang="ru-RU" sz="2000" spc="-1" strike="noStrike">
                  <a:solidFill>
                    <a:srgbClr val="07077b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7077b"/>
                  </a:solidFill>
                  <a:latin typeface="Times New Roman"/>
                </a:rPr>
                <a:t>научить различать смешиваемые звуки и правильно употреблять их в собственной реч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Учитель-логопед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автоматизирует поставленные звуки, первично дифференцирует на слух и в произношении, последовательно вводит его в речь (в слог, слово, предложение, в самостоятельную реч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7077b"/>
                  </a:solidFill>
                  <a:latin typeface="Times New Roman"/>
                </a:rPr>
                <a:t>Воспитатель </a:t>
              </a: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по заданию логопеда с отдельными детьми закрепляет поставленный логопедом звук, дифференцирует со смешиваемыми фонемами на слух, и в произношении, используя речевой материал, рекомендуемый логопед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52e65"/>
              </a:solidFill>
              <a:latin typeface="Times New Roman"/>
              <a:ea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«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2" name="Picture 2" descr="C:\Users\User\Pictures\документы для дс\ОФОРМЛЕНИЕ В ДС\рамки для презентаций\99244859.jpg"/>
          <p:cNvPicPr/>
          <p:nvPr/>
        </p:nvPicPr>
        <p:blipFill>
          <a:blip r:embed="rId1"/>
          <a:stretch/>
        </p:blipFill>
        <p:spPr>
          <a:xfrm>
            <a:off x="-54144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1187280" y="542448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Прямоугольник 8"/>
          <p:cNvGrpSpPr/>
          <p:nvPr/>
        </p:nvGrpSpPr>
        <p:grpSpPr>
          <a:xfrm>
            <a:off x="-252360" y="692280"/>
            <a:ext cx="8353080" cy="5829480"/>
            <a:chOff x="-252360" y="692280"/>
            <a:chExt cx="8353080" cy="5829480"/>
          </a:xfrm>
        </p:grpSpPr>
        <p:pic>
          <p:nvPicPr>
            <p:cNvPr id="2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252360" y="692280"/>
              <a:ext cx="835308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-117000" y="1057320"/>
              <a:ext cx="8082360" cy="47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73764"/>
                  </a:solidFill>
                  <a:latin typeface="Times New Roman"/>
                </a:rPr>
                <a:t>Условия, необходимые для формирования у дошкольников правильного звукопроизношения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7077b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Целесообразно использовать все анализаторы. Опора на кинестетические ощущения способствует осознанному звучанию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2. Отработка звуков, смешиваемых в речи детей, осуществляется поэтапно и распределена в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77b"/>
                  </a:solidFill>
                  <a:latin typeface="Times New Roman"/>
                </a:rPr>
                <a:t>3. Закрепление поставленных свистящих звуков в процессе дифференциации всех близких 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8360" y="1628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9:47:59Z</dcterms:created>
  <dc:creator>user</dc:creator>
  <dc:description/>
  <dc:language>en-US</dc:language>
  <cp:lastModifiedBy>12</cp:lastModifiedBy>
  <dcterms:modified xsi:type="dcterms:W3CDTF">2023-03-29T09:35:49Z</dcterms:modified>
  <cp:revision>55</cp:revision>
  <dc:subject/>
  <dc:title>ТЕХНОЛОГИЯ  КОРРЕКЦИОННОЙ                РАБОТЫ ПО ФОРМИРОВАНИЮ             ПИСЬМЕННОЙ РЕЧИ У ДЕТЕЙ       ДОШКОЛЬНОГО ВОЗРАСТА С ОНР                Чипизубова  Елена  Александровна           учитель – логопед высшей категории          Муниципального  бюджетного дошкольного                образовательного учреждения   детский сад компенсирующего вида №2«Орлёнок»             муниципального образования                    город-курорт Анапа</dc:title>
</cp:coreProperties>
</file>