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94C-3BBD-4BE2-9CBF-8D4E8591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2F3-FE45-410F-A001-0BB1A067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85B-0EF5-4179-BAB5-7B357884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01B-3E45-4488-A1E7-91F5EC3F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EC41-9EBF-4A01-833A-A294135B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C6E9-DB3D-4112-8092-0478CE42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734A-9403-40CD-A28D-E6EFB7A4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8838-551C-477B-B850-C3535CC8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66F6-89CC-4EE1-9D1B-D8D5761F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8EA0-6F5B-4FF4-8555-D431B339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47BC-9D73-4D38-9B9F-97C3537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2FE-0EF7-43F0-BDA0-4DB50C8E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BF9E-2AEB-4E91-BB7E-03D16985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72A-9A51-448F-A8CB-3F610B5A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7FED-C402-4E4C-AE2D-717E89FF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BE30-15ED-4DBE-A322-E3ED3CF9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CB5-B52D-4DAA-AA01-6093F76C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83B-A3F8-4682-B400-3D9E9866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C60-13B4-4489-B5ED-7E228F4F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2D4-8550-42DB-846A-9F2B3A95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D1A-3CD5-48FC-A0D8-F69B4B6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1CF-0AC6-41B7-8782-698169C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AF3-D707-4973-A32B-2E2382C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543-CB51-4B10-9363-6A87728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EE34-1A27-480E-84D9-E1858DFBB9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161E-39D3-45BC-8E51-26B8D4DFDD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сихологические проблемы  современных дете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41600" y="39243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j0299125"/>
          <p:cNvPicPr/>
          <p:nvPr/>
        </p:nvPicPr>
        <p:blipFill>
          <a:blip r:embed="rId1"/>
          <a:stretch/>
        </p:blipFill>
        <p:spPr>
          <a:xfrm>
            <a:off x="533520" y="48006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267080" y="5737320"/>
            <a:ext cx="446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752480" y="312408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«Сегодня дети, а завтра – народ»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(С. Михалков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озрастная психолог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сихика – системное образ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ый возрастной период подготавливает следующий: если какой-то возраст прожит ребенком неблагополучно, то  следующий возраст будет менее продуктивны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ый возрастной период детерминируется (определяется)  ведущим типом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ый возрастной период сензитивен для формирования определенных навыков и качеств личности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Эмоциональные и поведенческие проблемы современных детей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75% детей выявляются те или иные эмоциональные трудности и наруше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вышенная тревожность, страхи, гиперактивность, психосомати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вышенная агрессивность (раздражительность, гнев, драчливость, обидчивость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эмоциональная неустойчивость (капризы, истерики, срывы, депрессии у подростков и т.д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все зависимости ( смс, планшет, интернет-зависимости;  пищевая, употребление ПА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оповреждения, суицидальный рис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в межличностном общении (замкнутость, постоянная конкуренция или соперничество со сверстниками, чувство собственной малозначимости и т.д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рушение привязанности – ведущая причина последующих проблем у де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ность – это потребность ребенка в заботе взрослого.  Эта потребность жизненно важная, витальна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и с ненадежной привязанностью не доверяют людям. Во взрослом возрасте  хотят близости, но боятся ее, т.к. всегда  боятся отвержения. Из-за негативного детского опыта плохо воспринимают себя, тревожны, неуверенны. В сценарии отношений таких людей всегда на первом месте будет идея о том, что отношения им в принципе не нужны. Они редко по-настоящему сближаются с людь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Людмила Петрановска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лавные тезисы из концепции привязанност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ребенок не уверен в своем родителе, в его привязанности, он не будет чувствовать себя нужным, при этом  будет добиваться подтверждений связи, стремиться ее сохранить и укрепи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любой це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родитель кричит на ребенка, ребенок не перестает любить своего родителя. Он перестает любить себ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йте запас прочности для детской псих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залось бы, начинай с молодых ногтей 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дбрасывать ребенку неурядицы и пробл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и его характер закалится, а воля станет железной. Но не тут-то было, с психологической точки зрения, ребенок вырастет более стрессоустойчивым и гибким в вопросе преодоления трудностей при условии, что у него будет любящая и благополучная семья, состоящая из адекватных родственников. Именно эти люди 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гут подарить малышу счастливое детств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а вместе с ним гибкость и изобретательность психики в стрессовой ситуации. Их нервная система более прочная, ребенок 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 помощью своих близких учится утешать себ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Если же родители с самого рождения «включали школу жизни», то подобные малыши так и не научатся противостоять жизненным невзгодам, им никто не показал механизм преодоления неурядиц и стрессов. Родители такими мелочами, как развитие у малыша навыков справляться с проблемами, не заморачивалис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коменда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 Спокойствие – путь к взаимопониманию. Родителям нужно учиться общаться с детьми правильно: 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 «наезжать»: избегать вопросов «почему ты?», уметь  присоединяться к чувствам и переживаниям ребен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Избегайте стресса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бенок 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должен бояться своих родителей и мир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который его окружает. Длительный стресс губителен для детской любознательности и познавательной активности. Вряд ли ему захочется узнавать что-нибудь новое, если он постоянно испытывает страх или психологический дискомфорт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моционально благополучные дети лучше учатся и развиваются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збегайте конфликтов в семье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они есть, во-первых, ребенок учится такому способу общения в семье, а, во-вторых, теряют уверенность в стабильности и прочности родительских отнош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важайте чувства своего ребенка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он научится уважать Ваши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Содержимое 3" descr="https://avatars.mds.yandex.net/get-zen_doc/2816669/pub_5ec4cfc0379baa1075eb7ef3_5ec4cfe59b4e1c1c260bb0b2/scale_1200"/>
          <p:cNvPicPr/>
          <p:nvPr/>
        </p:nvPicPr>
        <p:blipFill>
          <a:blip r:embed="rId1"/>
          <a:stretch/>
        </p:blipFill>
        <p:spPr>
          <a:xfrm>
            <a:off x="1523880" y="152280"/>
            <a:ext cx="4953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езентацию подготовил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емина Ирина Борисовна, педагог-психолог Лицея №5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. Соч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Спасибо за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743200" y="5638680"/>
            <a:ext cx="446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1-11-25T13:29:36Z</dcterms:modified>
  <cp:revision>1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