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4DE5EFF-7290-4A96-90A5-05B87BBC70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6E9634E-D64A-4D96-A128-1FF144A639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E30-EC80-4F1B-B2A0-DC1B34FB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BD8-C3A3-403B-80F4-8B2224D8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6CB76-2E6F-4770-A246-21490A4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077BA-C929-4475-B31C-9B7FD40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8114-6808-453A-9F92-035F518F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D6A0-7848-420D-A277-C1AFF71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EBDB-6D65-42E1-AD44-A7D1ED8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9DC0-F01D-419E-9F72-6401020B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07248-2574-4FDC-9673-12A5B71A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8E78-C870-483A-A13D-D659D74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1B8D7-12C4-4F02-BA61-E5C321A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416-518C-4E66-8933-66CA591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176-5AFD-47B4-866A-BB152A1C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3611-25DA-4FD3-B266-07BFC3F2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6D1-758D-457D-AACF-8EAAC31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5A9-46C3-4E0C-A02A-3E285B4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0309-37BE-4B61-99D6-2010E67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BAE-5166-415B-B88A-CC608A9A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681-27AB-420F-B812-177D5D20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FE94-8162-4091-906A-837346D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6E8-1AA2-4E54-86DD-4FF37293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A644-C809-43FE-AABA-DA6D3AE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DB3-9223-49D6-BCBE-575A60CE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03B0-99B8-4AA8-921B-BD2ADE6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2950-17AF-4ABB-8B35-974DF023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C7E-E265-40FE-8797-69C82C44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5783-9101-48EE-872F-DEF210D5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8261-5B26-4EAB-81B9-8C52055A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C598-3D3D-4F4C-82BE-9717DA17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472C-6FFF-4ED5-B145-BCD91F5E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6E0A-44AF-41B1-8E13-E5D41B1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815-F110-4CC7-93EE-BD4EFC3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AB19-8266-4BD8-B24B-E1CD0EA1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D35C-D50F-4276-B45C-0A987602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9035E-AB9C-469C-9E0D-B90DC60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61DC-0960-4E62-B6CB-7301215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7681-E37C-4D12-9071-F1524F6F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EB84-E55D-4D3C-B857-0E754D9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3622-5535-41BD-BF5F-DF3613D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A847-9DBB-4219-80EE-49C9EFA2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7B38-1390-4116-8E05-02D4DEC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34EE-A028-4029-9CAC-071F6D3A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278-6D05-4EEA-B83D-F411F99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EC03-1C27-41E7-AC1C-91A39CE8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25A5-D8B8-41E5-B87B-7E293D4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C61A-319C-4DED-AE2E-297FE7D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36E75-B404-47A7-B910-203CBE1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55A7-4621-4FDE-8A5C-6A36319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6D57-14B0-44C6-978E-A2419ACC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ABA1-749E-4676-8A83-816016D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59AE-84C3-4B4B-B8A2-B9EA3327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C410-17F4-4BD9-98C8-2593F5F6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68FE-CA06-45A5-99F2-97A9832F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C85-BE85-422E-8A08-1E35E772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449B-5D81-4ACD-AAAE-2063793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4EAFD-055B-4CA1-B504-CA1E9F5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81FC-F9CF-4C90-8812-A9AADD64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9951-BF1E-4F2D-8104-22321A6B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EDC0C-579B-41A3-9D1A-A0ACC561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8670-70E6-4EF9-9F0F-824FD86C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70460-557B-421D-A3D4-CA2BA3F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1432-7194-42D3-8B3C-B4FFB76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0865-4E58-4D2E-A5AC-9E8D1BA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B7B94-9E4C-437A-9A01-B809172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06C-27C3-4DFD-9EE1-219F5A0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80C8-81DE-4D83-BA23-8E7F6312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EFDC-9F30-4117-A678-43427721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96118-D3DB-44B9-8CD2-F8AA77CC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42A0-EBFD-4575-84D2-116F653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CA91-7AD4-40CF-8A2A-4E904AE3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2909-3ADE-4DEA-8979-C60AF2E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A96C-CB0E-4B70-9521-20C1ACF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5AAE9-F038-4986-AB69-21AD075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1F2D-4FD6-49FF-A6D9-1AC93C2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3391A-384C-4619-8C19-792371B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003-52EE-4272-B604-29850B9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9166-2E7E-4EA9-9FA0-935ADC8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3894-E9B7-46E2-B7CA-5229150E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9B24F-19D2-4160-80AF-CC328653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D97C4-E6C0-4E20-8457-10453E7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C8276-8D04-4E1C-9342-4118C3EC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40BF0-E5A2-4156-B8F5-AB34CD77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61B6-CAFD-41EF-B62C-A663007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ADD8-10B2-4B10-A9E6-69CD7ED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C3E2-295F-42B6-99C3-9B8B0E5B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E316-DB99-444F-93EC-F0D79D8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376-38AB-4195-9B4E-0E33526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0759D-D355-4645-BC27-C5D9D2A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8448-3608-40BA-A9DC-A407004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8F9B-269C-4FFD-B148-9257365B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3AC81-0395-4CC7-A7E3-CC82FDBA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A8A44-07AF-45F6-8BF8-E2AC8013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70BF-27F6-4DCE-8F63-241CE167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A8597-2B60-4C91-B1EB-AF8565A2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948E-640B-4B10-B48D-38F6F26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5D36F-9D2E-4863-B352-EB888C25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D2F20-0E2C-4751-81E7-72ADC45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982-28B8-430E-9D5A-7C3437D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EFDC0-2665-423C-B69D-CAFAE151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2EE1-1AD5-4350-BE0C-7D8A71E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6BD22-BB4C-469E-89E4-69CCB43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0D013-643A-42DE-A3A4-09BE219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725D-02C1-4B03-9AF2-47F98EA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028C8-E1B2-405E-9AD1-5BD3D503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C435-F4D1-420C-9B74-7C2133B4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5C33-08E9-4D81-A65B-A731F41B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051A7-00A1-4E20-A1EB-25862E22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E5E1-1968-4A46-B5BB-6ABA2C8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s://presentation-creation.ru/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591D47C4-AC85-46A4-8A84-C2A8B6FAE84D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8"/>
          </p:nvPr>
        </p:nvSpPr>
        <p:spPr>
          <a:xfrm>
            <a:off x="1703520" y="5297040"/>
            <a:ext cx="5736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Шаблоны презентаций с сайта </a:t>
            </a:r>
            <a:r>
              <a:rPr b="0" lang="en-US" sz="1200" spc="-1" strike="noStrike" u="sng">
                <a:solidFill>
                  <a:srgbClr val="168bba"/>
                </a:solidFill>
                <a:uFillTx/>
                <a:latin typeface="Times New Roman"/>
                <a:hlinkClick r:id="rId5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4449600"/>
            <a:ext cx="8637840" cy="19080"/>
            <a:chOff x="512640" y="4449600"/>
            <a:chExt cx="863784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44960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45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99AAA6F4-03BB-4705-8FEC-541C3BBF09FF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63000"/>
            <a:ext cx="28958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1CC42562-6511-4DC6-BEFF-8886B76D6626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2865600"/>
            <a:ext cx="8637840" cy="10800"/>
            <a:chOff x="512640" y="2865600"/>
            <a:chExt cx="8637840" cy="108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2865600"/>
              <a:ext cx="8637840" cy="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4d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4d4d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8612CFE3-1DA5-4F22-93CF-96AAE9045094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5010120"/>
            <a:ext cx="8637840" cy="12600"/>
            <a:chOff x="512640" y="501012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01012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5016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5397120"/>
            <a:ext cx="762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27D6524-A8A3-41FA-A190-83424D391AC5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2E2D7B66-0A3B-494F-8FA2-9829678E5842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4870440"/>
            <a:ext cx="8637840" cy="12600"/>
            <a:chOff x="512640" y="4870440"/>
            <a:chExt cx="863784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8704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87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F1043445-2E9E-4C6F-A31C-E27045AA8D62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6464D3D7-3205-4545-9A98-5C0DB7A609A7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6B7843C-62E7-4ADE-972C-53E8B4527F03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5" descr="НКСЭ.jpg"/>
          <p:cNvPicPr/>
          <p:nvPr/>
        </p:nvPicPr>
        <p:blipFill>
          <a:blip r:embed="rId1"/>
          <a:stretch/>
        </p:blipFill>
        <p:spPr>
          <a:xfrm>
            <a:off x="2143080" y="20718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7"/>
          <p:cNvSpPr/>
          <p:nvPr/>
        </p:nvSpPr>
        <p:spPr>
          <a:xfrm>
            <a:off x="297000" y="426960"/>
            <a:ext cx="859464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3473"/>
                </a:solidFill>
                <a:latin typeface="Franklin Gothic Book"/>
              </a:rPr>
              <a:t>Новороссийский колледж строительства и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473"/>
                </a:solidFill>
                <a:latin typeface="Franklin Gothic Book"/>
              </a:rPr>
              <a:t>Сравнительный анализ результатов СПТ и мониторинга тревожности студ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1341360" y="195120"/>
            <a:ext cx="6454800" cy="908280"/>
          </a:xfrm>
          <a:prstGeom prst="rect">
            <a:avLst/>
          </a:prstGeom>
          <a:ln w="0">
            <a:noFill/>
          </a:ln>
        </p:spPr>
      </p:pic>
      <p:pic>
        <p:nvPicPr>
          <p:cNvPr id="527" name="Схема 3" descr=""/>
          <p:cNvPicPr/>
          <p:nvPr/>
        </p:nvPicPr>
        <p:blipFill>
          <a:blip r:embed="rId2"/>
          <a:stretch/>
        </p:blipFill>
        <p:spPr>
          <a:xfrm>
            <a:off x="628560" y="1395360"/>
            <a:ext cx="807084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 как СПТ носит, прежде всего, профилактический характер и призвано удержать несовершеннолетних студентов  от «экспериментов» с ПАВ, необходимо своевременно принять необходимые меры профилактик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всегда ориентируем  профилактическую работу с несовершеннолетними на позитивное мышление и здоровый образ жизн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 привлекаем для проведения бесед  специалистов, работающих в специализированных медицинских учреждениях и организациях, деятельность которых направлена на профилактику незаконного потребления наркотических средств и психотропных веществ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596880" y="219240"/>
            <a:ext cx="8559720" cy="841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285840" y="1282680"/>
            <a:ext cx="8501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Групповые формы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оведение индивидуальных бесед, направленных на формирование жизнестойкости, уверенности в себе, устойчивости к возможным стрессовым ситуациям в период сдачи экзамен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едение информационно-просветительских бесед по профилактике курения, алкоголизма, наркомании и т.д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Цикл классных часов с использованием презентаций и видеоматериалов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сихологические беседы в группах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«Родительский всеобуч»  онлайн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Организация бесед с врачом психоневрологического диспансера по предупреждению аутоагрессивного и деструктивного поведения студент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04920" y="107172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ая работа классного руководителя и преподавателей. Наблюдение за поведением студентов группы «особого внимания»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 и коррекционные занятия со студентами группы «особого внимания» по устранению и решению личностных проблем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неурочной занятости студентов группы «особого внимания». Привлечение студентов группы «особого внимания» к участию в творческих мероприятиях колледжа, в различных конкурсах, олимпиадах, викторина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систематических занятий физкультурой и спортом (секций, клубов, соревнований) с привлечением студентов группы «особого внимания» к участию в спортивных и военно-патриотических мероприятиях, соревнования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31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профилактике правонарушений, деструктивного и зависимого поведения, предупреждения употребления наркотиков и алкоголя, курения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формированию жизнестойкости,  профилактике аутодеструктивного и аддиктивного поведения, развития стрессоустойчивости и коммуникативной компетентности,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студентов «группы риска» к участию в конкурсах рисунков, плакатов, буклетов и т.д.  по пропаганде ЗОЖ и профилактике употребления ПАВ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влечение студентов «группы риска» в социально-значимую деятельность и общественную работу в группе, колледже, городе (дежурство, трудовые десанты, волонтёрское движение, акции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1146240" y="334800"/>
            <a:ext cx="6364080" cy="622440"/>
          </a:xfrm>
          <a:prstGeom prst="rect">
            <a:avLst/>
          </a:prstGeom>
          <a:ln w="0">
            <a:noFill/>
          </a:ln>
        </p:spPr>
      </p:pic>
      <p:pic>
        <p:nvPicPr>
          <p:cNvPr id="537" name="Объект 3" descr=""/>
          <p:cNvPicPr/>
          <p:nvPr/>
        </p:nvPicPr>
        <p:blipFill>
          <a:blip r:embed="rId2"/>
          <a:stretch/>
        </p:blipFill>
        <p:spPr>
          <a:xfrm>
            <a:off x="512640" y="1225440"/>
            <a:ext cx="828360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268200" y="285840"/>
            <a:ext cx="8723520" cy="561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-68400" algn="just"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6378"/>
                </a:solidFill>
                <a:latin typeface="Franklin Gothic Boo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госпитальной шкале тревоги и депрессии HADS (А.С. Зигмонд и Р.П. Снайта)  тестируем всех студентов 1-2 курса (нл). Выявлением повышенный уровень тревоги и депрессии.(октябрь) То есть, предполагаем,  в латентную группу СПТ они попали именно по этим параметрам (не исключая остальных факторов риска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учается, мы с ними работаем ДО получения результатов СПТ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имея информации, по каким факторам студенты вошли в латентную группу СПТ, мы дополнительно их тестируем, тратим время и резурсы, выявляя, какие факторы риска преобладают у них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едовательно, зная КАЧЕСТВЕННЫЕ результаты латентной группы СПТ, можно 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Сразу сформировать целевые группы  для коррекции и профилактики, не тратя времени на диагностику и уже в ноябре полноценно работать и менно с целевыми группам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Можно обьяснить родителям и студентам причины направления на медосмот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Снизить уровень тревожности студентов и напряженности родителей перед прохождением медосмотра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828720" y="4906800"/>
            <a:ext cx="8248680" cy="824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6" descr="НКСЭ.jpg"/>
          <p:cNvPicPr/>
          <p:nvPr/>
        </p:nvPicPr>
        <p:blipFill>
          <a:blip r:embed="rId2"/>
          <a:stretch/>
        </p:blipFill>
        <p:spPr>
          <a:xfrm>
            <a:off x="987480" y="341280"/>
            <a:ext cx="7527960" cy="460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31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14300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дним из путей решения важной социальной задачи по профилактике суицида является развитие и формирование эмоциональной устойчивости относительно различных воздействий внешней среды.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Тревожность и депрессия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посредственно связаны с психоэмоциональным напряжением и являются маркерами для более внимательного отношения к студенту и дополнительного изучения личности. Выявление проблем в структуре личности, препятствующих адаптации в новых жизненных условиях, позволяет правильно организовать работу со студентами.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спешная адаптация и учебная деятельность студентов зависит, в том числе, и психоэмоционального состояния. Изучение психоэмоциональных состояний (используем госпитальную шкалу) студентов позволяет разработать рекомендации по индивидуальному психолого-педагогическому воздействию, что обеспечивает понижение тревожности, повышение эмоциональной устойчивости и настроения.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нижение аутодеструктивного риска, развитие стрессоустойчивости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и тестирования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 Выявить уровень тревожности и уровень депрессии у несовершеннолетних студентов колледжа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 Составить рекомендации для классных руководителей  по индивидуальной работе со студентами по снижению уровня тревожности и депрессии на основе результатов исследования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ЕМ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это психодиагностическое обследование, позволяющее выявлять исключительно психологические "факторы риска" возможного вовлечения в зависимое поведение, связанные с дефицитом ресурсов психологической "устойчивости" личност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олученны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результаты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осят прогностический, вероятностный характе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Количество отказов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т проведения СПТ всего-2 из 2987 ( 0, 06%)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В ходе тестирования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были определенные трудности при ответах, так как вопросы были непонятны некоторым респондентам, имели двойной смысл и сложное построение. Приходилось объяснять то или иное выражение, что затрудняло процесс выполнения и занимало много времени и в дальнейшем повлияло на показател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СПТ осуществлялась оценка вероятности вовлечения в аддиктивное поведение на основе соотношения факторов риска и факторов защиты, воздействующих на обследуемых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208080" y="384120"/>
            <a:ext cx="8783640" cy="804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требность в одобр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дверженность влиянию группы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асоциальных установок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клонность к риску (опасности)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мпульсив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Тревож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рустрация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ркопотребление в социальном окруж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2" descr=""/>
          <p:cNvPicPr/>
          <p:nvPr/>
        </p:nvPicPr>
        <p:blipFill>
          <a:blip r:embed="rId1"/>
          <a:stretch/>
        </p:blipFill>
        <p:spPr>
          <a:xfrm>
            <a:off x="1073160" y="231840"/>
            <a:ext cx="6827760" cy="907920"/>
          </a:xfrm>
          <a:prstGeom prst="rect">
            <a:avLst/>
          </a:prstGeom>
          <a:ln w="0">
            <a:noFill/>
          </a:ln>
        </p:spPr>
      </p:pic>
      <p:pic>
        <p:nvPicPr>
          <p:cNvPr id="510" name="Схема 5" descr=""/>
          <p:cNvPicPr/>
          <p:nvPr/>
        </p:nvPicPr>
        <p:blipFill>
          <a:blip r:embed="rId2"/>
          <a:stretch/>
        </p:blipFill>
        <p:spPr>
          <a:xfrm>
            <a:off x="201600" y="1200240"/>
            <a:ext cx="873432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542880" y="231840"/>
            <a:ext cx="8143920" cy="858600"/>
          </a:xfrm>
          <a:prstGeom prst="rect">
            <a:avLst/>
          </a:prstGeom>
          <a:ln w="0">
            <a:noFill/>
          </a:ln>
        </p:spPr>
      </p:pic>
      <p:sp>
        <p:nvSpPr>
          <p:cNvPr id="512" name="Овал 4"/>
          <p:cNvSpPr/>
          <p:nvPr/>
        </p:nvSpPr>
        <p:spPr>
          <a:xfrm>
            <a:off x="357120" y="1214280"/>
            <a:ext cx="647640" cy="54000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5"/>
          <p:cNvSpPr/>
          <p:nvPr/>
        </p:nvSpPr>
        <p:spPr>
          <a:xfrm>
            <a:off x="357120" y="21430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6"/>
          <p:cNvSpPr/>
          <p:nvPr/>
        </p:nvSpPr>
        <p:spPr>
          <a:xfrm>
            <a:off x="357120" y="30718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357120" y="40006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187280" y="99684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ить социально - психологические условия (социальную ситуацию развития обучающихся), формирующие психологическую готовность 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структивному поведе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лиц подросткового и юношеск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9"/>
          <p:cNvSpPr/>
          <p:nvPr/>
        </p:nvSpPr>
        <p:spPr>
          <a:xfrm>
            <a:off x="1214280" y="1913040"/>
            <a:ext cx="731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обучающихся с повышенной  вероятностью  вовлечения в различные формы деструктивного  повед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>
            <a:off x="1214280" y="292896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ндивидуальные и сводную карты рисков по каждой группе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7"/>
          <p:cNvSpPr/>
          <p:nvPr/>
        </p:nvSpPr>
        <p:spPr>
          <a:xfrm>
            <a:off x="1214280" y="407196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ть  адресную  и системную  работу с обучающимися в групповой и индивидуальной  форме, направленную на профилактику вовлечения  их в деструктивные форм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1258920" y="1357200"/>
          <a:ext cx="6742080" cy="3727440"/>
        </p:xfrm>
        <a:graphic>
          <a:graphicData uri="http://schemas.openxmlformats.org/drawingml/2006/table">
            <a:tbl>
              <a:tblPr/>
              <a:tblGrid>
                <a:gridCol w="1650960"/>
                <a:gridCol w="1720800"/>
                <a:gridCol w="1684440"/>
                <a:gridCol w="168588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 прошло СП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студентов  латент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нт выяв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,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9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6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428760" y="1000080"/>
          <a:ext cx="8358120" cy="3760920"/>
        </p:xfrm>
        <a:graphic>
          <a:graphicData uri="http://schemas.openxmlformats.org/drawingml/2006/table">
            <a:tbl>
              <a:tblPr/>
              <a:tblGrid>
                <a:gridCol w="714240"/>
                <a:gridCol w="666720"/>
                <a:gridCol w="654120"/>
                <a:gridCol w="581040"/>
                <a:gridCol w="654120"/>
                <a:gridCol w="726840"/>
                <a:gridCol w="581040"/>
                <a:gridCol w="654120"/>
                <a:gridCol w="654120"/>
                <a:gridCol w="1017720"/>
                <a:gridCol w="1454040"/>
              </a:tblGrid>
              <a:tr h="945360"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д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пре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и К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% КТ+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вержденные результаты (направлены на консультацию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073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0064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785880" y="1295280"/>
          <a:ext cx="7286400" cy="3260880"/>
        </p:xfrm>
        <a:graphic>
          <a:graphicData uri="http://schemas.openxmlformats.org/drawingml/2006/table">
            <a:tbl>
              <a:tblPr/>
              <a:tblGrid>
                <a:gridCol w="1255680"/>
                <a:gridCol w="2030400"/>
                <a:gridCol w="2071800"/>
                <a:gridCol w="1928520"/>
              </a:tblGrid>
              <a:tr h="19306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твержденная группа риска по тестированию в колле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атентная группа по СП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впадение по двум метод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5T17:04:43Z</dcterms:created>
  <dc:creator>Юрий Козырев</dc:creator>
  <dc:description/>
  <dc:language>en-US</dc:language>
  <cp:lastModifiedBy>Пользователь</cp:lastModifiedBy>
  <dcterms:modified xsi:type="dcterms:W3CDTF">2022-06-14T08:32:49Z</dcterms:modified>
  <cp:revision>329</cp:revision>
  <dc:subject/>
  <dc:title>Презентация PowerPoint</dc:title>
</cp:coreProperties>
</file>