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47C2-83C7-4BF6-8979-505CDE51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657B-AAD5-4A7B-B0F4-9062E4B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9B0E-2C6D-49B5-ADD0-66D7D8DC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9378-68F7-42CB-9D00-F9D1DD4C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FE0A-9413-4283-A201-29414A7A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5DF3-80A3-4804-80D1-F5D75C3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297B-65CD-4A71-83A0-CB9D70D3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3382-40D2-482D-A814-78B28D29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8E5E-84B8-4BCE-AB44-B4FA2711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6EDF-D5BE-45B4-9CDA-200E7890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917A-A4FF-41D5-A181-0D96197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8EE4-6B0E-4E6C-B87D-4435635B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D55F-3E10-49CB-B190-4A2975B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4F10-1567-409B-8C17-1576699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0691-D632-44D2-B2FF-689A3307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A10C-A7F3-4FA2-97B1-229F24FC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93C2-382A-4794-BAD9-664250DF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0251-79B5-4D2A-B3DB-E079521B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0375-08BF-45C9-8C66-561EC179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6E73-2E41-43C8-9B34-538003A7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82F3F-22C1-4321-B0A1-48ABE690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BEDB-BBFF-4866-AECC-CD7116A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6DBA2-2667-426E-88A4-DF5A616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5A99-6193-49BA-9466-A9158C9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6BB2-431B-417A-80B2-BF6330D1CD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54C-2F3A-4D1C-AF2A-17D4FB2824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uzz.ru/photos/7492884/scandinavian-style-on-a-budget-in-a-small-city-apartment-skandinavskiy-amsterda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сновы профилактики аутодеструктивного поведения подрос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8720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подготовка субспециалистов из числа работающих с конкретной группой подростков. С этой целью проводится интенсивная программа (24-часовой цикл занят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работа с подростками (долгосрочная программа в течение года — 39-часовой цикл 2 раза в неделю или 1-2раза в, месяц по 4-6 час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/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параллельная работа с родителями в течение года (16-ч совой цикл занятий 1-2 раза в меся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ЦЕДУРНЫЕ ФОРМЫ ПСИХОЛОГИЧЕСКОГО СОПРОВОЖДЕНИЯ В ПРОЕКТЕ «ПЕРЕШЕ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ые и проективные психологические метод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ая и групповая рефлекс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гимнастические процедуры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ы саморегу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ение дневников участниками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я, моделирующие школьные ситуации, ситуации с конфликтным содержанием, насильственным предложением употреб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косодержащие ве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левые игры со скрытым мотивом, обратной связ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у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зговой штур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тации, работа с воображ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-лекции по специаль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драма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ы индивидуальной и групповой психотерап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использование массовых мероприятий (дискот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руглые стол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ервиз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ие методических занятий с супервизо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cript MT Bold"/>
              </a:rPr>
              <a:t>ПРИМЕРНАЯ СТРУКТУРА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681120"/>
          <a:ext cx="9144000" cy="6176880"/>
        </p:xfrm>
        <a:graphic>
          <a:graphicData uri="http://schemas.openxmlformats.org/drawingml/2006/table">
            <a:tbl>
              <a:tblPr/>
              <a:tblGrid>
                <a:gridCol w="1200240"/>
                <a:gridCol w="909720"/>
                <a:gridCol w="2638080"/>
                <a:gridCol w="2324160"/>
                <a:gridCol w="2071800"/>
              </a:tblGrid>
              <a:tr h="32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т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хождение в в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во заня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означить начал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ы начал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ждом занят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торять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 тот ж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состояния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, оценк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оспосо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чем они пришли на группу, как себя сейчас ощущаю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, ассоциац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ветом и друг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, котор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раз могу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ть нов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жд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и мож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упраж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ключение в совместную деятельнос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ъединение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чен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оздание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ожела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тмос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или мен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 с четко определенными правил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трен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 участвов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водим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, соответству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 форм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иальн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холог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нятие напряжения, устал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ключ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ую тем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плочен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можности приближа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щие к ново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иг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соответству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разнообразные активны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циальн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домашние зад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92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озможность «отстояться» сознанию,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ировать энергию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рабатывать 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навык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регу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о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тативные технологии, упражнения направлен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обра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использованием музыкального ф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8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щ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ину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ить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 осуществлят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 тот же риту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ия группы на протяжен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й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цедура 1—2. «Информирова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ть правила, по которым будет жить группа в дальнейш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 с вами предстоит прожить небольшую, но очень интенсивную жизнь в этом круге. Жизнь эта будет протекать по определенным правилам. Вот эти правила. Они предлагаются для вашего свободного обсуждения и принятия или непринятия и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ая закрыт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мы будем работать от начала и до конца в одном составе. Желательно соблюдать дисциплину и ходить на все занятия, без переры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сихологическая закрыт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се происходящее в группе не должно выноситься за ее пределы. Сами понимаете: если человек не присутствует в круге, не понимает сути происходящего, то он может неправильно истолковывать пересказанные события, извратить их. Все, что делается в круге, касается только членов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Дозированная» откровенность и искр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члены группы могут быть искренними в своих суждениях, откровенны настолько, насколько они считают возможным на данный момент, в атмосфере данной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Я-высказывания»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о, чтобы каждый человек в группе начинал говорить только от своего имени, так он может нести ответственность за то, что в реальности думает, чувствует. Обратный пример: «Все считают, что Сережа не прав». Правильный вариант: «Я считаю, что Сережа поступил несправедливо, в связи с чем я испытываю разочаровани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о «Стоп!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т член группы, который не хочет отвечать на какой-либо вопрос, участвовать в какой-либо игре или процедуре из-за нежелания быть искренним или из-за неготовности быть откровенным, имеет право сказать «Стоп!» и тем самым исключить себя из участия в процеду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ивность, ответств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ого за результаты деятельности груп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о правило подразумевает зависимость эффективности групповой работы от вклада каждого ее члена и необходимость трудиться не только для себя, для решения собственных проблем, но и для других, ибо работа на другого есть способ познания себ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3400" y="1828800"/>
            <a:ext cx="2847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ТУАЛЬНЫЕ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https://samopoznanie.kz/avatars/objects/3-234338_1_6.jpg?1556393924"/>
          <p:cNvPicPr/>
          <p:nvPr/>
        </p:nvPicPr>
        <p:blipFill>
          <a:blip r:embed="rId1"/>
          <a:stretch/>
        </p:blipFill>
        <p:spPr>
          <a:xfrm>
            <a:off x="0" y="142920"/>
            <a:ext cx="59180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785880"/>
            <a:ext cx="914400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дель комплексного развития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Цветок потенциал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 быть успешно применена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илактики и коррек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го девиантного синдрома адаптации (ОДС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й синдром относится к донозологическим ступе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й адаптации на трех уровня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чес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мотивация избегания неуспех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уверенное поведение, низкая «социальная смел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. д.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оциональ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тревожность, пониженный фон настроения, раздражительность, агрессивность и т. д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нитив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искаженная карта мировосприятия, пессимистическое восприятие окружающего мир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уровень имеет набор определенных компонентов, являющихся, в свою очередь, индикаторами степени выраженности синдро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больше формируется и проявляется компонентов ОДС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 выше риск возникновения нарушений нервно-психической регуля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ствием чего становятся различные расстройства здоровь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соматические заболе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вно-психические пробл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евиантные формы по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https://3.404content.com/1/81/69/1027570088390689852/fullsize.jpg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42560" y="571680"/>
            <a:ext cx="9001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ое внимание необходимо уделить возрастанию уровня жизненной компетентности, включающей в себя социальную, личностную и экологическую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пособность личности эффективно выстраивать свои отношения с окружающими, соответствовать требованиям, предъявляемым сре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еренная самооценка, наличие адекватных механизмов психологической защиты, поведенческие шаблоны, способствующие приспособлению, копинг-стратегии и другие личностные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ажительное отношение к природе, выстраивание конструктивных отношений с окружением, критичность в восприятии информации из средств массовой коммун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программы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жде всего, содействие в формировании личностью системы адекватных и продуктивных представлений, своеобразной концепции жизни, обеспечивающей развитие и укрепление ее социальной, личностной и экологической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ренная в себе личность, имеющая позитивное отношение к самой себе, своим знаниям, умеющая решать конфликты с помощью переговоров, правильно оценивающая свои чувства и потребности, способная противостоять негативному влиянию группы — приобретает способность сознательно выстраивать свое поведение на принятие и формирование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71680" y="42840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компонентов жизненной компетентности согласно потенциа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214280"/>
          <a:ext cx="8643960" cy="5291280"/>
        </p:xfrm>
        <a:graphic>
          <a:graphicData uri="http://schemas.openxmlformats.org/drawingml/2006/table">
            <a:tbl>
              <a:tblPr/>
              <a:tblGrid>
                <a:gridCol w="1765440"/>
                <a:gridCol w="6878520"/>
              </a:tblGrid>
              <a:tr h="244800">
                <a:tc>
                  <a:txBody>
                    <a:bodyPr lIns="23400" rIns="2340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marL="819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 жизненной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0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раз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е мышление; • умение анализировать результаты своей деятельности; • знания о здоровом образе жизни; • предупреждение 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с чувствами и их выражение; • умение определять свои чувства; • умение распознавать эмоциональные состояния других людей на основе наблюдения за внешними проявлениями эмо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в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ответственности; • умение делать выбор; • принятие решений;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декватная самооценка; • самоконтро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воего тела, развитие его; • умение управлять своим т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932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ыдерживать давление группы; • навык эффективного невербального общения; • умение преодолевать конфликты; • умение встречать других людей без предубеждений; • умение принимать людей с их достоинствами и недостатками; • умение разрабатывать взаимовыручку (сотрудничество, помощ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в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вность; • созидательность; •спонтанность;  • естествен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24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делать бескорыстное добро; • сопереживание другим; • осознание себя частичкой мира, уважение и бережное отношение к природе, ответственное обращение с другими людьми и окружающей средой в ц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406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ПОТЕНЦИАЛ РАЗУМА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интеллекту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развивать интеллект и уметь им пользовать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ать объективные знания о формах проявления и последствиях девиант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висимостях к табакокурению, алкоголю, наркотикам и другим психоактивным веществ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 подростка объективной информацией о девиантном поведении, его послед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их собственное отношение этой проблеме, знания о действии на организм химических веществ, меняющих состояние сознания, о путях развития наркологических заболеваний во всех асп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альтернативных проявлениюдевиантной активности (в том числе употреблению наркотических веществ) способов получения удовольствия, решения проблем и использования свободного вре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4964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1. Синквейн - Работа с переживаниями с помощью сти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е замечания. Приоритетны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иблиотерапии можно отн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олько чтение чужих произведений, с выражением или бе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и сочинение своих поэм, саг, стихов, сказ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чтение с определенной интонацией может изменить эмоциональное состояние человек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инение в группе и декламация может способствовать еще более глубокой проработке внутренних проб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бумага формата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ка,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агрессия — активность, нацеленная (осознанно или неосознанно) на причинение себе вреда в физической и психической сфе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42560" y="428760"/>
            <a:ext cx="900108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струкции для участников выделены курсив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визуальных, аудиальных, кинестетических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 предлагается занять удобное для себя по­ложение (встать, присесть, сесть на пол, если есть соответствующие условия, — по желани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глаза. Представьте цвет, звук, мело­дию, движения, с помощью которых можно было бы выразить собственное состояние «здесь и теперь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дивидуальн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значимое переживание из жизни, либо то, что вам мешает, либо ситуацию, в которой вы часто оказыв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 стихотворение согласно следующим прави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ы 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 состоит из 5 строк 11 с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рока – одно слово – название переживания (лучше существитель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рока – два слова – описание первого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ока – 3 слова – действие, которое возникло в результате этого пере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рока – четыре слова – описание чувства, которое возникло в результате эти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трока – повтор первого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, не ну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соплю, не говор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нелепость, бесполезность, туп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, не ну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соплю, не говор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нелепость, бесполезность, туп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0080" y="571680"/>
            <a:ext cx="7686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иография в 5 главах (Порша Нельсон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иду по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адаю в не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теряна... Я беспомощ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ужна вечность, чтобы выбраться отту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елаю вид, что не вижу е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нова падаю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могу поверить, что я в том же самом 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это не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о-прежнему нужно много времени, чтобы выбрать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жу, что она та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 равно падаю… это привыч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глаза откры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жу, где 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бираюсь немедленн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бхожу ее вокруг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 иду по другой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до - стихотворение о присущей вам чер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является в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дост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дост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женщ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легко сделать боль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чит быть силь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ставляет побежд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уязвима и я - женщина (искл. из прави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40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ПОТЕНЦИАЛ ВОЛИ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личност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к самореализации; умение ставить цели и достигать их, выбирая адекват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уждение подростка к изучению своеобразия собственной личности, сильных и слабых сторон, Я-концепции (самооценки), стратегий достижения успеха; к пониманию своих ролей и возможных способов реализации себя через эти роли; к заботе о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развитой концепции самосознания у подростка, собственной системы ценностей, установок, способности делать самостоятельный выбор, контролировать свое поведение и жизнь, решать простые и сложные жизненные проблемы, умения оценивать ту или иную ситуацию и свои возможности контролировать 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571320"/>
            <a:ext cx="6357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вогодний SM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щания важно правильно формулировать. Как именно? — Так, чтобы они был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кретными, измеримыми, достижимыми, реалистичными и основанными на време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Многим наверняка знакома аббревиатура SMART — вот так это и называется. «Похудеть к лету» — скорее всего, не сработает. А вот пример удачного намерения: «заниматься 2 раза в неделю в спортзале, по 1,5 часа — по понедельникам и средам до работы»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ужно ставить 1-2 цели, не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Чем больше целей, тем меньше вероятность их достиже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 используйте прошлогодние недостигнутые це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то приведет к накоплению чувства вины, стыда и раздражения на себя самого, увеличит самокритику. Все это не помогает идти по пути к запланированному. Лучше возьмите что-нибудь новое или подумайте о причинах, по которым вы не достигли желаемой цели за прошедший год. Может быть, все дело в том, что цель была недостижим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пишите все свои желания письмен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обавьте конкретные этапы и шаги, которые требуются для выполнения данных себе обещан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зьмитесь за реализацию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медленно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не завтра, не 1 января, а прямо сейчас! Тогда, поднимая новогодний бокал, вы совершенно точно будете знать, чего именно хотите достичь в новом году и как получите желаемое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ото написано: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вы ждете знака, то вот он». Действу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Скандинавский  by Louise de Miran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6800" y="785880"/>
            <a:ext cx="27972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ПОТЕНЦИАЛ ЧУВСТВ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эмоцион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808360"/>
            <a:ext cx="822960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конгруэнтно выражать свои чувства, понимать и безоценочно принимать чувства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мения сопереживать окружающим и понимать их чувства, выработка навыков узнавания и дифференцирования собственных эмоций, повышение эмоционального интеллекта, «культивирование» чувств, что означает не сдерживание эмоциональных проявлений, а цивилизованное выражение 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едицинском плане опасны эмоции отрицательного характера, такие, как гнев, тоска, страх, боязнь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но на их основе формируются так называемые психосоматически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обладают рядом нежелательных свой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обладают длительным последствием, нередко продолжаясь в течение ряда часов, даже после прекращения действия раздражающих фак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при частых и повторных проявлениях способны переходить в форму стационарного, устойчивого возбуждения мозга — в «застойную» фор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словиях стационарной отрицательной эмоции формируются мощные потоки нисходящих возбуждений, распространяющихся на внутренние органы, особенно на произвольно неуправляемые компоненты эмоций. Этим влияниям противостоят механизмы саморегуляции функциональных систем гомеостатическ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J:\психофизиология\i2.jpg"/>
          <p:cNvPicPr/>
          <p:nvPr/>
        </p:nvPicPr>
        <p:blipFill>
          <a:blip r:embed="rId1"/>
          <a:stretch/>
        </p:blipFill>
        <p:spPr>
          <a:xfrm>
            <a:off x="1403280" y="0"/>
            <a:ext cx="623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44719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ыражаем эмоции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Е. Погуд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Администратор\Pictures\3636460-700-144701363679235019977276501.jpg"/>
          <p:cNvPicPr/>
          <p:nvPr/>
        </p:nvPicPr>
        <p:blipFill>
          <a:blip r:embed="rId1"/>
          <a:stretch/>
        </p:blipFill>
        <p:spPr>
          <a:xfrm>
            <a:off x="5219640" y="-30240"/>
            <a:ext cx="3924360" cy="4365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Администратор\Pictures\2660810-R3L8T8D-850-lioncub.jpg"/>
          <p:cNvPicPr/>
          <p:nvPr/>
        </p:nvPicPr>
        <p:blipFill>
          <a:blip r:embed="rId2"/>
          <a:stretch/>
        </p:blipFill>
        <p:spPr>
          <a:xfrm>
            <a:off x="0" y="3421080"/>
            <a:ext cx="5292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3314880"/>
            <a:ext cx="9144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Анализ способов выражения эмо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этого заполнить следующую табличку. В ней отражены четыре базовые эмоции (конечно, спектр наших эмоциональных проявлений намного разнообразнее; считается, что мы рождаемся со способностью выражать эти четыре базовые эмоции), а также способы, с помощью которых мы выражаем эти эмо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если ты часто злишься – каким образом ты эту эмоцию выражаешь? Кричишь и швыряешь все вокруг? Тогда это и отражается в таблице, и это будет поведенческий способ выражения эмо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же ты считаешь, что не злишься никогда (что, скорее всего, неправда), но зато тебя мучают мигрени и бессонница – то, вероятнее всего, ты можешь выражать свою злость только телесным способ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если ты понимаешь, что злишься, и идешь бить подушку, то это будет символический способ выражения гне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ты при этом приговариваешь, «как же ты меня разозлил!», то ты подключаешь и вербальный спосо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же самое нужно проделать со всеми остальными эмоциями – печалью, радостью, страх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828800" y="-28440"/>
            <a:ext cx="5524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иды аутодеструктивного поведения в подростковом возрасте (Н.А. Польск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79930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40428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чувства будут проявлять себя в полную силу, если каналы для выражения других «перекрыт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в семье был силен запрет на гнев и стр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я страха может маскироваться под эмоцию печали, а эмоция гнева – под эмоцию рад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это будет выглядеть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-23760" y="1442880"/>
            <a:ext cx="5838840" cy="419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619440" y="4430880"/>
            <a:ext cx="5524560" cy="24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28760" y="642960"/>
            <a:ext cx="82915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овать, какие эмоции тебе в детстве запрещались, какие – разреша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эмоции ты сейчас разрешаешь себе, а какие – запрещаеш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ют ли таблиц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бывает так, что очень тихая девочка, которой запрещали гневаться, во взрослом возрасте начинает испытывать как будто бесконтрольный гнев – и тогда нужно посмотреть, а какую эмоцию она запрещает испытывать себе сейчас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едко это бывает печаль или рад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ние того, какие эмоции нужно себе разрешить испытывать сейчас и каким способом (телесный, поведенческий, символический, вербальный) это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таблиц эмоций у партнеров по браку/общению – нередко бывает так, что они оказываются «зеркальными» – то, что разрешено у партнера, запрещено у нас, 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4. ПОТЕНЦИАЛ ТЕЛА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физически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развивать физическую составляющую здоровья, осознавать собственную телесность как свойство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ние своего тела, изучение языка тела — «системы раннего оповещения», собственной «телесной географии» эмоциональных проявлений, умение контролировать и устранять мышечные зажимы, быть устойчивым, гибким, спонтанным; обучение методам психосоматической саморегуляции как конструктивной форме снятия последствий стресса; получение удовольствия во взаимодействии с телом через спорт, секс, тан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тяжести своего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МР – нервно-мышечная релак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тдохнуть за 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5. ОБЩЕСТВЕННЫЙ ПОТЕНЦИАЛ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соци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ность человека оптимально адаптироваться к социальным условиям, стремление постоянно повышать уровень коммуникативной компетентности, обретение чувства принадлежности ко всему человечест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чь в социальной адаптации подростка. Научить устанавливать контакты с другими, развивать партнерские отношения, строить эффективное, взаимообогащающее общение; принимать и оказывать психологическую и социальную поддержку окружающим, быть способным обратиться при необходимости за помощью к друг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99680" y="928800"/>
            <a:ext cx="818676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Охота за мусор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анализируйте приведенный далее список. У вас есть 10 минут для подготовки и 30 минут, чтобы найти перечисленные ниже предметы и принести их в аудитор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лов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ша команда всегда должна быть вместе, т.е. вы не можете разделиться и искать предметы параллельно. Если один из членов вашей команды заходит куда-либо, чтобы добыть предмет, остальные члены команды должны либо зайти вместе, либо ждать около входа. В ходе работы в группе присутствует наблюда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ным считается задание, если оно сделано точно в срок. За каждую минуту опоздания штраф — не засчитывается один принесенный предмет из списка. Таким образом не засчитывается столько предметов, на сколько минут опоздала команда. Сверьте часы с часами преподавателя до начала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60496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golian Baiti"/>
              </a:rPr>
              <a:t>Неспособность к разрешению межличностных и межгрупповых конфликтов </a:t>
            </a:r>
            <a:r>
              <a:rPr b="0" lang="ru-RU" sz="2400" spc="-1" strike="noStrike">
                <a:solidFill>
                  <a:srgbClr val="000000"/>
                </a:solidFill>
                <a:latin typeface="Mongolian Bait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golian Baiti"/>
              </a:rPr>
              <a:t>может послужить провоцирующим фактором к употреблению наркотиков. Часто практикуемая стратегия состоит в том, чтобы путем потребления наркотических средств уйти в сторону от решения проблем и конфликтов. Умение поговорить друг с другом, возможность доверить кому-то свои проблемы, выслушать другого и знать, где и у кого можно получить помощь, — важнейшие элементы профилактики 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Mongolian Bait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6. КРЕАТИВНЫЙ ПОТЕНЦИАЛ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творчески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079440"/>
            <a:ext cx="822960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к созидающей активности, стремление творчески сам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ться в жизне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ь способность нестандартно мыслить и решать любые жизненные задачи посредством развитого доверия к творческой части своей личности и предоставления ей полной свободы в этой деятельности; научить генерировать оригинальные идеи, «опрокидывать границы» стереотипов, придавать завершенный вид продуктам своего мыш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572472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ли общий рису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Администратор\Desktop\психология цвета\оранжевый\4f914e4b2b633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7589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0" y="1571760"/>
            <a:ext cx="9144000" cy="54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замечания. Приоритет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а «Диалог» может использоваться на протяжении всей терапевтической работы для осуществления обратной связи, при отработке конфликтной ситуации. Возможно использование данной методики в семейной психотерапии при разрешении конфликтов между родителями, родителями и ребенком, а также для разрешения внутриличностных конфликтов (диалог разных частей личност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пастельных мелка различного цвета. Техническое средство для вос­произведения музыки. Записи музыкальных композ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струкции для участников выделены курсив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 На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себе пару, желательно, чтобы это был человек, с которым вы хуже всего находите общ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мелок, которым будет 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Работа по пар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те диалог друг с другом посредством ри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йте  в любом месте листа, в каком хот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условие – говорить нельз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Этап вер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занимают стулья, развешивают на стены рисунки так, чтобы всем было удобно рассмотреть детали. В группе происходит обсуждение следующих вопросов по каждому рисунку или на выб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ли диалог? О чем они «говорили»? Кто был лидером, кто ведомым ? Было ли оказано сопротивление одной из сторон ? Кто первым начал, как это происходило – робко, тревожно или агрессивно ? Как вы думаете,  какие они люд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думаете, кто каким цветом рисовал ? Вам было приятно рисовать? Сейчас вам приятно видеть то, что получ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Заключи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делятся впечатлениями о совместной работе, отличалось ли их настроение, когда они рисовали первый и второй раз, изменилось ли их отношение к участнику «диалог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57132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 «Шесть шляп мышления» Э. де Бо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Шесть шляп мышления» – это методика, предлагающая выполнять по одному мыслительному действию за раз, и, тем самым, разграничивать мыслительные операции, выполняя в определенный отрезок времени только одну мыслительную операцию. Не пытаясь сделать всё сразу, человек образно надевает по одной шляп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го имеется шесть разноцветных шляп, каждая из которых символизирует определенный тип мышления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ел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отвечает за сбор только объективных фактов, объективной информ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ас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роявление эмоций и чувст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желт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оиск позитивных сторон, преимущест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р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оиск отрицательных сторон, недостатк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еле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творческий поиск, генерирование новых идей, альтернативных подход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иня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анализ всего мыслительного процесса (рефлексия мышления) и вывод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ы аутодеструктивного повед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.В.Ипат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утверждающий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низкая способность к саморегуляции поступков, неумение просчитывать последствия своих действий. Отличительная особенность – совершение мелких правонарушений, предпочтение рискованных занятий (озорство с риском для жизни)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укция как способ самоутверждения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знакомство с конструктивными способами самоутвер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щающийся (напряженный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ыражена потребность в одобрении и поддержке, переживание психотравмирующих отношений с родителями и сниженная склонность к зависимостям разного рода. Характерны уходы из дома, прогулы уроков, бессодержательное время препровождение в компании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обрести психологическую безопасность, снять внутренне напряжение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овладение приемами совладания с тревогой, навыками уверенно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ражатель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легко поддаются влиянию, склонны к зависимостям, но редко бывают асоциальны. У них более выражены конформность, общительность, навязчивость по сравнению с другими типами. Для них характерно преувеличение своей ранимости, что служит самоооправданием деструктивным поступкам, совершаемым в угоду «авторитетам». Часто встречаются употребление алкоголя, курение, случаи попрошайничества, прогулы школьных занят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мощ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азвитие критичности, самостоятельности мыш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монстратив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истероидная манера поведения, склонность к зависимостям и низкой социальной отгороженности. Выраженный уровень саморазрушения, беспечность (курение, употребление алкоголя, наркотиков)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самовыражения, поиск внимания со стороны значимых людей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ыстраивание просоциальной деятельности для самовыра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тест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оциальная отгороженность, податливость влиянию, невыраженная склонность к нарушению порядка. Свойственны бродяжничесво, употреблениея алкоголя, попытки самоповреждений, бессодержательное времяпрепровождение с элементами азартных игр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самовыражения или «мщения» за реальные и мнимые обиды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овладение приемами неконфликтного толерантного общения с окружаю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7.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УХОВНЫЙ ПОТЕНЦИАЛ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духов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развивать духовную природу человека, выражать высшие ценности в жиз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создания атмосферы принятия каждого, метода священного безмолвия открыть доступ к состояниям любви, веры, надежды. Дать опыт проживания высших состояний любви к себе, ближнему и к мир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созидательной жизненной програм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ые ц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ределения,  данные Всемирным духовным университетом Брахма Кумари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офилактика девиантного поведения в проекте «Перешеек» -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это, прежде всего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943360"/>
            <a:ext cx="822960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1) выработка личной компетентности (доверять себе, верить себе, понимать себ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2) стимулирование и поддержка обращения к своим обычным и высшим чувствам и желани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3) выработка социальной компетен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4) активное участие в создании своего жизненного простран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5) способность противостоять различного рода внешним стрессовым ситуа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ейственная профилактическая  и коррекционная работа должна обеспечить следующее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ть подростку объективную информацию о последствиях проявления девиантной актив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устойчивую психологическую защиту от патологических искуш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навыки решения сложных задач собственного разви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определенные поведенческие навыки, облегчающие следование по пути здорового стиля жизн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фференциации объекта воз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дел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ниверсальные» программы (направленные на всю группу населения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ыборочные» (направленные на определенную часть насе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«по показаниям» (составленные для тех, кто уже относится к различным группам риск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специалистами выделяются программы, направ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школ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стную обществен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м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стратегии и тактики осуществления профилактическо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нформационный подход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аффективного обучени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влияния социальных фактор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формирования жизненных навык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альтернативной асоциальному поведению деятельности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укрепления здоровь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0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а отклоняющегося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социальной среды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(создание негативного общественного мнения по отношению к отклоняющемуся поведению, социальная реклама по формированию установок на здоровый образ жизни и трезвость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;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работа с молодежной субкультурой может быть организована форме движения «Молодежь против наркотиков» или одноименной акции с выступлением популярных рок-групп и п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Информирование 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-  направление психопрофилактической работы в форме лекций, бесед, распространения специальной литературы или видео- и телефильм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Активное социальное обучение социально-важным навыкам 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- преимущественно реализуется в форме групповых тренингов (Тренинг резистентности (устойчивости) к негативному социальному влиянию, Тренинг ассертивности или аффективно-ценностного обучения, Тренинг формирования жизненных навы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деятельности, альтернативной девиантному поведению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альтернативными формами активности признаны: познание (путешествия), испытание себя (походы в горы, спорт с риском), значимое общение, любовь, творчество, деятельность (в том числе профессиональная, религиозно-духовная, благотворительная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здорового образа жизни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исходит из представлений о личной ответственности за здоровье, гармонию с окружающим миром и своим организм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Активизация личностных ресурсов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активные занятия подростков спортом, их творческое самовыражение, участие в группах общения и личностного роста, арттерап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Минимизация негативных последствий девиантного поведения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используется в случаях уже сформированного отклоняющегося поведения. Она направлена на профилактику рецидивов или их негативных последств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8440" y="642960"/>
            <a:ext cx="71578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нкретные задачи профилактик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 программе «Перешеек» осуществляются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840" y="228564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вышения квалификации/обучения специалистов (школьных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линических психологов, социальных педагогов, валеологов, учите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нятий по темам/семинаров-тренин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боты с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светительской работы со средствами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нсультаций и коррекции в преддверии завис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спользования развлекательных молодежных мероприятий (проведение тематических дискотек, спектакл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21:39Z</dcterms:created>
  <dc:creator>1</dc:creator>
  <dc:description/>
  <dc:language>en-US</dc:language>
  <cp:lastModifiedBy>Евгения</cp:lastModifiedBy>
  <cp:lastPrinted>2011-12-17T17:50:48Z</cp:lastPrinted>
  <dcterms:modified xsi:type="dcterms:W3CDTF">2023-04-17T05:41:12Z</dcterms:modified>
  <cp:revision>39</cp:revision>
  <dc:subject/>
  <dc:title>Цель профилактической раб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