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A2E-7D1B-4773-AC13-49885251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BBB-7149-40CD-B7A2-22F44FAF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780-B837-4643-8F55-459007B3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E20-DDF6-4F9E-A5F9-7EB8E3CF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141-BF39-4A3A-9EFC-CB51B5EB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0BA-DDAC-4271-AD20-4ECDC337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273-D8F0-43A4-91E3-E466EF9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63C-BBFD-47D3-AEED-7B3A6BAB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E04-1291-48AE-934A-552BD2B4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F12-5077-4097-8502-AAACB67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7E3-2963-4DBE-A63B-EA5A495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50B-CA01-4F32-9E4B-061A169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1AA8-F0C3-4074-85E3-E697AFB08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доление коммуникативных трудностей на этапе адаптации  у учащихся 1 класса  посредств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ых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652640"/>
            <a:ext cx="5288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ГБПОУ КК Е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ева Л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ИТОГ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2952720"/>
                <a:gridCol w="1182600"/>
                <a:gridCol w="1646280"/>
                <a:gridCol w="164628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коммуникативные навыки по итогам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 позицию собеседн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ё мн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и задают вопрос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т понятные высказыв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т работать в па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5" descr=""/>
          <p:cNvPicPr/>
          <p:nvPr/>
        </p:nvPicPr>
        <p:blipFill>
          <a:blip r:embed="rId1"/>
          <a:stretch/>
        </p:blipFill>
        <p:spPr>
          <a:xfrm>
            <a:off x="407880" y="1603440"/>
            <a:ext cx="8291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ЕЗУЛЬТАТОВ СТАРТОВОЙ ДИАГНОС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773440"/>
        </p:xfrm>
        <a:graphic>
          <a:graphicData uri="http://schemas.openxmlformats.org/drawingml/2006/table">
            <a:tbl>
              <a:tblPr/>
              <a:tblGrid>
                <a:gridCol w="730080"/>
                <a:gridCol w="2953080"/>
                <a:gridCol w="1584000"/>
                <a:gridCol w="1511640"/>
                <a:gridCol w="1450800"/>
              </a:tblGrid>
              <a:tr h="305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иориз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ТРУ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договоритьс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слуша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высказать свою позицию или учесть  позицию друг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ние задавать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4" descr=""/>
          <p:cNvPicPr/>
          <p:nvPr/>
        </p:nvPicPr>
        <p:blipFill>
          <a:blip r:embed="rId2"/>
          <a:stretch/>
        </p:blipFill>
        <p:spPr>
          <a:xfrm>
            <a:off x="828720" y="1390680"/>
            <a:ext cx="7705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Жукова 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rcRect l="20432" t="1826" r="6123" b="3331"/>
          <a:stretch/>
        </p:blipFill>
        <p:spPr>
          <a:xfrm>
            <a:off x="928800" y="2170080"/>
            <a:ext cx="2706480" cy="4354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417320"/>
            <a:ext cx="4041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ы: Мухаматулина Е.А., Михеева И. 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9" descr=""/>
          <p:cNvPicPr/>
          <p:nvPr/>
        </p:nvPicPr>
        <p:blipFill>
          <a:blip r:embed="rId2"/>
          <a:stretch/>
        </p:blipFill>
        <p:spPr>
          <a:xfrm>
            <a:off x="5135400" y="2292480"/>
            <a:ext cx="2962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: Боева 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6" descr=""/>
          <p:cNvPicPr/>
          <p:nvPr/>
        </p:nvPicPr>
        <p:blipFill>
          <a:blip r:embed="rId1"/>
          <a:stretch/>
        </p:blipFill>
        <p:spPr>
          <a:xfrm>
            <a:off x="507960" y="2174760"/>
            <a:ext cx="3938760" cy="395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7" descr=""/>
          <p:cNvPicPr/>
          <p:nvPr/>
        </p:nvPicPr>
        <p:blipFill>
          <a:blip r:embed="rId2"/>
          <a:stretch/>
        </p:blipFill>
        <p:spPr>
          <a:xfrm>
            <a:off x="4932360" y="2154240"/>
            <a:ext cx="316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КООП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и рисун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rcRect l="3816" t="-741" r="8851" b="-625"/>
          <a:stretch/>
        </p:blipFill>
        <p:spPr>
          <a:xfrm>
            <a:off x="414360" y="2292480"/>
            <a:ext cx="4827600" cy="31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ицц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6" descr=""/>
          <p:cNvPicPr/>
          <p:nvPr/>
        </p:nvPicPr>
        <p:blipFill>
          <a:blip r:embed="rId2"/>
          <a:srcRect l="1142" t="6229" r="0" b="0"/>
          <a:stretch/>
        </p:blipFill>
        <p:spPr>
          <a:xfrm>
            <a:off x="5535720" y="2178000"/>
            <a:ext cx="24922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то я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6" descr=""/>
          <p:cNvPicPr/>
          <p:nvPr/>
        </p:nvPicPr>
        <p:blipFill>
          <a:blip r:embed="rId1"/>
          <a:srcRect l="21819" t="4600" r="23151" b="4647"/>
          <a:stretch/>
        </p:blipFill>
        <p:spPr>
          <a:xfrm>
            <a:off x="1187280" y="2174760"/>
            <a:ext cx="2376720" cy="391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Что в сундучк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2"/>
          <a:srcRect l="4298" t="2580" r="13694" b="0"/>
          <a:stretch/>
        </p:blipFill>
        <p:spPr>
          <a:xfrm>
            <a:off x="4859280" y="2276640"/>
            <a:ext cx="3241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Шевелева Л.В.</dc:creator>
  <dc:description/>
  <dc:language>en-US</dc:language>
  <cp:lastModifiedBy>Женя</cp:lastModifiedBy>
  <dcterms:modified xsi:type="dcterms:W3CDTF">2021-10-12T20:31:45Z</dcterms:modified>
  <cp:revision>39</cp:revision>
  <dc:subject/>
  <dc:title>Презентация PowerPoint</dc:title>
</cp:coreProperties>
</file>